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13"/>
          </p:nvPr>
        </p:nvSpPr>
        <p:spPr>
          <a:xfrm>
            <a:off x="3800520" y="-36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14"/>
          </p:nvPr>
        </p:nvSpPr>
        <p:spPr>
          <a:xfrm>
            <a:off x="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15"/>
          </p:nvPr>
        </p:nvSpPr>
        <p:spPr>
          <a:xfrm>
            <a:off x="3800520" y="9342000"/>
            <a:ext cx="29066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6E0C-69AE-47D9-AC39-F60567E8385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46B9-E214-49AC-89F3-7171F70BD90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0CC8-84B9-4A47-A0D7-A9B0C3EB25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05A8-4F66-4856-BE22-0CD4D65723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43E1-7322-49D9-958A-B7D3F5BA84E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84D-A827-4FDC-9C52-5ED5BFD9683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30EC-E0B8-4770-9D53-B9348D6596C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00520" y="9342360"/>
            <a:ext cx="2906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F750-4D02-4FFD-8EF6-F9889C47CA2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C75-1FAB-4E61-8FC5-AA225C3D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AA6-E9C6-456C-8E0C-73586A6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23A-9155-4451-8D1F-951AC170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B5D-230C-4D69-A5FE-54594AD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3380-EDE2-4FE8-AAA1-AA17DBF0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1FBB-B3B7-47FA-B10E-9A790DCC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F589-483B-490B-9972-3EF29B0E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6342-13E1-4427-9A81-C7F63505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E871-98B9-467E-B488-2DC182B4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4B6-149B-4EA2-AEE6-816E9C0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2587-A41A-4371-AB37-00AF375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9FD-1EA5-4986-890A-07B1733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E039-233B-49B3-9E7F-B6300B97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246A-D0C4-4E33-9697-544EBEC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B250-54CA-41E0-A1F1-76781190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7FF-8FBC-4C24-B449-3FCB664B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E4FC-CE7F-44EF-B20D-E58847EB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B83E-3B1C-47E9-8E9C-A5FE91D9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40D1-F450-4257-B13F-1E2F80A9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9B11-BC2F-4C62-B6F4-4FA0EFE7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8C00A-3759-4379-81B9-7A1DA5DB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5D703-6FD4-4B98-82A2-B8BF434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51B-D377-493F-B79F-E175D6BE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D6A19-41A9-40BF-BD71-8E3E357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ABA0-C13C-4BBA-B5D2-47FD678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540D-FBF9-4940-87B8-D7C7B12A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B1CF-14F9-4FFF-AD9A-08F7176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1728-89A2-45B3-9A5F-E3DC38BB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BA1B-6676-4F06-87A2-0CDA7A85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E1D04-AE73-4D6D-A806-05FA4926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B6A1-64AE-4FDA-A3E8-50572E2E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687-E648-4DF7-BF82-52E25011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658-19C5-48B5-AA52-FE593F11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1F8-460F-4488-A173-9D85B798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E24F-4667-4754-A55E-CCB23CAE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E96C5-B002-4E60-B84C-0EBFFE92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E880-83A2-4C33-BFAA-5BC338C4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BF64-C85A-4316-B5EC-DCE8D2D1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C5E4-1CF9-4774-A25E-720CE217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3120" y="312480"/>
            <a:ext cx="827424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F0827-FBD7-45E7-B7FE-72C15345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2EE85-94A7-41E9-B0B4-45116AE2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0E96-215D-4F82-B4A0-9DBEAAD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DEB6-974F-43F2-A0EB-91FA9245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45705-718D-4B77-8FAB-86E1B81C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D730-9D4F-4908-A3FF-3E8690F8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1360" y="401112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56EBF-E5F4-4429-B4CB-0A79AE87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8528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67800" y="161136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312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8528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67800" y="4011120"/>
            <a:ext cx="274464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35AF4-68D1-4823-9DE3-203E0BCA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312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360" y="1611360"/>
            <a:ext cx="4159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3120" y="4011120"/>
            <a:ext cx="8524800" cy="21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35D-A29B-4943-AEE9-151B1A9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7440" y="6424200"/>
            <a:ext cx="57121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A657-A458-4183-A6C0-36BC9AA26A3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96640" y="6424200"/>
            <a:ext cx="572292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727-0270-4E3A-B5A7-4041333F096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6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86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97A9-4394-4783-B443-C2B09FC70B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2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1000" indent="-2491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888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6676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667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NIMD_logo_RGB"/>
          <p:cNvPicPr/>
          <p:nvPr/>
        </p:nvPicPr>
        <p:blipFill>
          <a:blip r:embed="rId2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NIMD_org_url_rgb"/>
          <p:cNvPicPr/>
          <p:nvPr/>
        </p:nvPicPr>
        <p:blipFill>
          <a:blip r:embed="rId3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60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2" descr="NIMD_org_url_rgb"/>
          <p:cNvPicPr/>
          <p:nvPr/>
        </p:nvPicPr>
        <p:blipFill>
          <a:blip r:embed="rId2"/>
          <a:stretch/>
        </p:blipFill>
        <p:spPr>
          <a:xfrm>
            <a:off x="682560" y="6392880"/>
            <a:ext cx="1784520" cy="264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NIMD_logo_RGB"/>
          <p:cNvPicPr/>
          <p:nvPr/>
        </p:nvPicPr>
        <p:blipFill>
          <a:blip r:embed="rId3"/>
          <a:stretch/>
        </p:blipFill>
        <p:spPr>
          <a:xfrm>
            <a:off x="695160" y="1214280"/>
            <a:ext cx="7821720" cy="13352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6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5"/>
          <p:cNvSpPr/>
          <p:nvPr/>
        </p:nvSpPr>
        <p:spPr>
          <a:xfrm>
            <a:off x="8566200" y="419040"/>
            <a:ext cx="288720" cy="630360"/>
          </a:xfrm>
          <a:custGeom>
            <a:avLst/>
            <a:gdLst/>
            <a:ahLst/>
            <a:rect l="l" t="t" r="r" b="b"/>
            <a:pathLst>
              <a:path w="1188" h="2592">
                <a:moveTo>
                  <a:pt x="258" y="2592"/>
                </a:moveTo>
                <a:cubicBezTo>
                  <a:pt x="252" y="2592"/>
                  <a:pt x="0" y="1812"/>
                  <a:pt x="234" y="1110"/>
                </a:cubicBezTo>
                <a:cubicBezTo>
                  <a:pt x="451" y="464"/>
                  <a:pt x="936" y="0"/>
                  <a:pt x="942" y="24"/>
                </a:cubicBezTo>
                <a:cubicBezTo>
                  <a:pt x="936" y="0"/>
                  <a:pt x="1188" y="606"/>
                  <a:pt x="990" y="1392"/>
                </a:cubicBezTo>
                <a:cubicBezTo>
                  <a:pt x="821" y="2094"/>
                  <a:pt x="246" y="2586"/>
                  <a:pt x="258" y="25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3120" y="312480"/>
            <a:ext cx="8274240" cy="14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3120" y="1611360"/>
            <a:ext cx="852480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0"/>
          </p:nvPr>
        </p:nvSpPr>
        <p:spPr>
          <a:xfrm>
            <a:off x="30276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1"/>
          </p:nvPr>
        </p:nvSpPr>
        <p:spPr>
          <a:xfrm>
            <a:off x="298080" y="6424200"/>
            <a:ext cx="5721480" cy="2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2"/>
          </p:nvPr>
        </p:nvSpPr>
        <p:spPr>
          <a:xfrm>
            <a:off x="669780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1CF8-427C-4EA7-BDCF-9CEDB52B68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www.cemi-tunis.org/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71760" y="5991120"/>
            <a:ext cx="373068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860d"/>
                </a:solidFill>
                <a:latin typeface="Arial"/>
              </a:rPr>
              <a:t>NIMD | From parties for parties</a:t>
            </a:r>
            <a:endParaRPr b="1" lang="en-US" sz="20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85440" y="5008320"/>
            <a:ext cx="79167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Jerome Schel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1"/>
          <p:cNvSpPr/>
          <p:nvPr/>
        </p:nvSpPr>
        <p:spPr>
          <a:xfrm>
            <a:off x="684360" y="3398760"/>
            <a:ext cx="7723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860d"/>
                </a:solidFill>
                <a:latin typeface="Arial"/>
              </a:rPr>
              <a:t>NIMD’s approach to Democrac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Design 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6080" y="1012320"/>
            <a:ext cx="9007560" cy="53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me design consideration for Don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Political programming and education require flexibility and long term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estment/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-trap (or cascade roll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T for Transfer, not for Topic: plan as ‘reverse pyrami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ing partner identification (e.g. wider frame of activ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Neutral facilitator (crisis mitigation) -&gt; Diplomatic -&gt; political mover -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te -&gt; activ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short term impact measurement or causalities as indicators for PM&amp;E or Intervention Log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420840" y="1160640"/>
            <a:ext cx="8611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-political civil socie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t politicians / party ag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ents of change” or “changing the agents”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R / activism)         (Politics / Diplomac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bjective &amp; context: discussion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420840" y="1160640"/>
            <a:ext cx="861192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p-down or Bottom-up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rickle-down or Mass-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National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achieve system change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Community level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to seek direct impact on citizens’ daily liv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(in terms of efficiency, not princip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247760" y="1030320"/>
            <a:ext cx="78962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Year-long monthly weekend school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ed at increasing skills and knowledge on democratic practises (value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un by Tunisian ngo CEMI (EU funded INSPIRED-partner) with financial and strategic support of international partners NIMD &amp; DEMO Finland (EPD-members) and BSoP (CoE-School), and with funding from CoE (…E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a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240000" y="3621240"/>
            <a:ext cx="3286080" cy="323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0" y="3621240"/>
            <a:ext cx="3240000" cy="103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3"/>
          <a:stretch/>
        </p:blipFill>
        <p:spPr>
          <a:xfrm>
            <a:off x="49320" y="465624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4"/>
          <a:stretch/>
        </p:blipFill>
        <p:spPr>
          <a:xfrm>
            <a:off x="6697800" y="5535720"/>
            <a:ext cx="2276280" cy="1322280"/>
          </a:xfrm>
          <a:prstGeom prst="rect">
            <a:avLst/>
          </a:prstGeom>
          <a:ln w="0">
            <a:noFill/>
          </a:ln>
        </p:spPr>
      </p:pic>
      <p:pic>
        <p:nvPicPr>
          <p:cNvPr id="336" name="Image 2" descr="CEM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26080" y="3619440"/>
            <a:ext cx="2617920" cy="939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"/>
          <p:cNvPicPr/>
          <p:nvPr/>
        </p:nvPicPr>
        <p:blipFill>
          <a:blip r:embed="rId7"/>
          <a:stretch/>
        </p:blipFill>
        <p:spPr>
          <a:xfrm>
            <a:off x="217440" y="5686560"/>
            <a:ext cx="2803680" cy="1171440"/>
          </a:xfrm>
          <a:prstGeom prst="rect">
            <a:avLst/>
          </a:prstGeom>
          <a:ln w="0">
            <a:noFill/>
          </a:ln>
        </p:spPr>
      </p:pic>
      <p:pic>
        <p:nvPicPr>
          <p:cNvPr id="338" name="Image 4" descr="C:\Users\USER\Divers dossiers\Bulgarian logo.jpg"/>
          <p:cNvPicPr/>
          <p:nvPr/>
        </p:nvPicPr>
        <p:blipFill>
          <a:blip r:embed="rId8"/>
          <a:stretch/>
        </p:blipFill>
        <p:spPr>
          <a:xfrm>
            <a:off x="6697800" y="4656240"/>
            <a:ext cx="2276280" cy="10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860d"/>
                </a:solidFill>
                <a:latin typeface="Arial"/>
              </a:rPr>
              <a:t>Tunisian School of Politics (TSoP)</a:t>
            </a:r>
            <a:endParaRPr b="1" lang="en-US" sz="28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727280" y="1030320"/>
            <a:ext cx="7280280" cy="51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gramme developed just after the “Arab Spring” in 2011, schools 2 classes started in 2012, 3 now 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7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fer to party leadership to send their ‘promising’ youth members. School makes final selection based on crite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Recently established multiparty system. Politicians lack democratic experien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Grooming new lea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Enforcing youth voice within all political partie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 group graduated in July 2012, of which 20 ANC-members + other hig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 larger demand than plac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0200" indent="-342720">
              <a:lnSpc>
                <a:spcPct val="120000"/>
              </a:lnSpc>
              <a:buClr>
                <a:srgbClr val="ff860d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oP is now political and diplomatic pla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41280" y="1030320"/>
            <a:ext cx="125568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e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860d"/>
                </a:solidFill>
                <a:latin typeface="Arial"/>
              </a:rPr>
              <a:t>Resul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Box 1"/>
          <p:cNvSpPr/>
          <p:nvPr/>
        </p:nvSpPr>
        <p:spPr>
          <a:xfrm>
            <a:off x="1320840" y="4206960"/>
            <a:ext cx="63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860d"/>
                </a:solidFill>
                <a:latin typeface="Arial"/>
              </a:rPr>
              <a:t>On NIMD:</a:t>
            </a:r>
            <a:endParaRPr b="1" lang="en-US" sz="44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36640" y="1117440"/>
            <a:ext cx="7051680" cy="17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MD was founded in The Netherlands in 2000 b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all Political Parties in Parlia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 = Supporting democracy by strengthening political parties by working directly with political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-20988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ia Interparty Dialogue, custom bilateral party support, peer-to-peer exchanges, policy process support, democracy sch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09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301680" y="1117440"/>
            <a:ext cx="1163520" cy="1500480"/>
            <a:chOff x="301680" y="1117440"/>
            <a:chExt cx="1163520" cy="1500480"/>
          </a:xfrm>
        </p:grpSpPr>
        <p:sp>
          <p:nvSpPr>
            <p:cNvPr id="301" name="AutoShape 5"/>
            <p:cNvSpPr/>
            <p:nvPr/>
          </p:nvSpPr>
          <p:spPr>
            <a:xfrm>
              <a:off x="301680" y="1117440"/>
              <a:ext cx="116136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2" name="Picture 6" descr=""/>
            <p:cNvPicPr/>
            <p:nvPr/>
          </p:nvPicPr>
          <p:blipFill>
            <a:blip r:embed="rId1"/>
            <a:stretch/>
          </p:blipFill>
          <p:spPr>
            <a:xfrm>
              <a:off x="301680" y="1117440"/>
              <a:ext cx="11635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Box 8"/>
          <p:cNvSpPr/>
          <p:nvPr/>
        </p:nvSpPr>
        <p:spPr>
          <a:xfrm>
            <a:off x="360360" y="4146480"/>
            <a:ext cx="402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rrently working in 25 countr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in Africa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 in Latin America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Europ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 in Asi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4 in North Africa &amp; Middle 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matic regional/global pro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7"/>
          <p:cNvSpPr/>
          <p:nvPr/>
        </p:nvSpPr>
        <p:spPr>
          <a:xfrm>
            <a:off x="4765680" y="3727440"/>
            <a:ext cx="402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nci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rti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clus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w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exibility &amp; context specifi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ng-term commi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3120" y="312840"/>
            <a:ext cx="827424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NIMD &amp; partners in Democracy Education: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0840" y="1160640"/>
            <a:ext cx="8611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strument in wider democracy strengthening strategy to enhance democratic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IMD providing framework and experience: ‘Democracy Schools’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artners help to design curriculum and adapt to local contex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mocracy education in 7 country programm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communi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Mozambique, Egypt, Georgia, Indonesia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With political party focu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 Burundi, Tunisia, Guatemala, Malawi, Egypt (pilot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3880" y="367920"/>
            <a:ext cx="73756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erent audience, different approac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37"/>
          <p:cNvSpPr/>
          <p:nvPr/>
        </p:nvSpPr>
        <p:spPr>
          <a:xfrm>
            <a:off x="484200" y="2932200"/>
            <a:ext cx="408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Civi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orm civil society at lar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local political activists, grassroots campaigners, social entreprene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key principles of political public eng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roduces practical knowledge for political engagement and technics for political particip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kills and confidence builder for wide political engagement an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eft Arrow 1"/>
          <p:cNvSpPr/>
          <p:nvPr/>
        </p:nvSpPr>
        <p:spPr>
          <a:xfrm>
            <a:off x="696960" y="1465200"/>
            <a:ext cx="2190600" cy="116676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Citizens &amp; community l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556080" y="1754280"/>
            <a:ext cx="2031840" cy="590400"/>
          </a:xfrm>
          <a:prstGeom prst="rect">
            <a:avLst/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mocracy Edu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ight Arrow 3"/>
          <p:cNvSpPr/>
          <p:nvPr/>
        </p:nvSpPr>
        <p:spPr>
          <a:xfrm>
            <a:off x="6226200" y="1508040"/>
            <a:ext cx="2133720" cy="112392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860d"/>
          </a:solidFill>
          <a:ln w="25560">
            <a:solidFill>
              <a:srgbClr val="bc61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olitic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15"/>
          <p:cNvSpPr/>
          <p:nvPr/>
        </p:nvSpPr>
        <p:spPr>
          <a:xfrm>
            <a:off x="4572000" y="2928960"/>
            <a:ext cx="415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stinctive for Political Educ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cipants from key politic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orks with established political figures &amp; national civil society lead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ddresses key issues of national policy develop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erience of participants becomes key learning re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rust builder that can lead to opportunities to bring together opposing political l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, Skills, Values; theory (applied during) &amp; practice (in and outside class, parallel to and afte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‘Political Studies’, but a ‘Political MB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ach depends on audience/target group and country context; political, geograp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development of curricu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Characteristics of NIMD’s approach to democracy education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3120" y="1814400"/>
            <a:ext cx="88408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erm School/Education more sustainable then ‘a’ training; deeper knowledge &amp; experience +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-party interperso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ment of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umn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ey in sustaining the process. Community of alumni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an objective in it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par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 stakehold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tforms for saf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y exchange /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rpar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ools as implicit think tanks (Georgia local counci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640" indent="-24264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 &amp;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rategy, political manoeuvre space &amp;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lection consider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ofile criteria &amp;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&amp; Commitment, tricks for engag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, during, -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ntor/managers &amp; Teachers/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ifferent ro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local were possible, external whe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uest)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o’s interest? -&gt; not too many foreign politicians pl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2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3120" y="1050480"/>
            <a:ext cx="8840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Action or Iso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Frequency: period of the w/m/y -&gt; homework -&gt; loca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methodolog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ety in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upply &amp;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active &amp; instru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ory &amp;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to peer focus: adult learning styles and method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05560">
              <a:lnSpc>
                <a:spcPct val="120000"/>
              </a:lnSpc>
              <a:spcBef>
                <a:spcPts val="700"/>
              </a:spcBef>
              <a:buClr>
                <a:srgbClr val="ff86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WE WANT GROUP WOR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2760" y="312480"/>
            <a:ext cx="826452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60d"/>
                </a:solidFill>
                <a:latin typeface="Arial"/>
              </a:rPr>
              <a:t>Elements (3)</a:t>
            </a:r>
            <a:endParaRPr b="1" lang="en-US" sz="3600" spc="-1" strike="noStrike">
              <a:solidFill>
                <a:srgbClr val="ff860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85760" y="1050480"/>
            <a:ext cx="89582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visits &amp; 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ere is the value, what are the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Do democratic skills exist? or only democracy values &amp;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knowledge next to political skills bound by democr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rders?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e conscious of over moralizing, 90% of activities withi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stern democracies is political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hich political skills might we not want to teach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8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21:03Z</dcterms:created>
  <dc:creator>nimd</dc:creator>
  <dc:description/>
  <dc:language>en-US</dc:language>
  <cp:lastModifiedBy>Visitor-G4</cp:lastModifiedBy>
  <dcterms:modified xsi:type="dcterms:W3CDTF">2013-06-20T12:15:40Z</dcterms:modified>
  <cp:revision>95</cp:revision>
  <dc:subject/>
  <dc:title>Dia 1</dc:title>
</cp:coreProperties>
</file>