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4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5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273F-A946-4C95-8CFC-F5E5F166BD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A7E-629D-4734-B0FC-2E716A87D8E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FFE9-6402-4712-BFB3-626632EF1C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C52-627E-4F0B-A2B4-1794DD5B21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138E-C17B-462D-8B43-21424119DF1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814E-FAB2-4E1A-B892-3A518BCE49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E7A-029C-45EE-96C2-0A907447EA2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A44F-0EF3-4F90-A8A5-BD6655A1AC4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FAF-7439-4EB8-8D1A-7EB86AA9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77A-9B09-4B16-9998-D3B721B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D54-8734-487A-91C4-EB716C4F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C36-9CCE-4B3D-9D9A-5903F11D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481-4AA1-4EEB-98E9-C7AC7AD4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3C6D-53AB-40C4-AD0F-423797B3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ABBD-3FF8-442B-ACF5-26B40CBB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3A8-BD09-4055-AA13-A6B89949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C1F-0FF4-4685-8E9F-BDF24844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62E8-01F2-4454-A3FC-00E7BFF7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7623-F232-4B5B-A6C1-1096B85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344-5210-4EC6-941F-562F1365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51B-6E42-4F25-A70F-CB6DFC06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0027-5ACF-44B8-B29B-5A2EA54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7C27-97B6-4174-83C1-0EED8D8A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06A-9F56-4903-B354-29D27DE7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8BD3-EBE2-42E8-BF20-569B2344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27F2-B5F5-464E-9C7B-ADC4228A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2832-3BB7-4034-A44B-28F63F69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8224-0285-4C5A-A6F5-3EBBA69B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5734-D27D-4BD9-87AF-24473DBB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5DE8-11DE-4399-8314-D284FFBD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329-441B-4809-B1D9-6BCCD62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20A99-598C-4700-8D1E-FB81C5A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88A2-5417-4941-8D13-5172E94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1733-0770-4516-B11C-F903033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C594-8635-446E-B3A0-3F7E206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1E49-59CF-4548-B180-72B5B3B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9E6D-E304-44DD-8728-09B24370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92F8-0C32-4289-8001-03A82348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49F-E917-401A-B583-59FBA6A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1C0-626E-490A-8F9A-257CDA4E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521-D88B-41E7-988A-07B8CD1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31A-52F0-47AD-A5FE-E474258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3EF2-D174-4E67-9806-7B99BC51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105F-F8FC-4197-A378-EF0F9343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59EFD-1831-410E-8D0C-6E6B01B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0473-9D4F-4748-896A-9A37FE07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DE22-D957-46BC-9B1C-74C02F6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FC09-903A-42CD-9DFB-971F650C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A6AF-DE54-44BB-84F1-E201427D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B1C-5AF7-4DC9-95B9-6168B20B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504D-3DCE-4C91-8A0F-22FED71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1E7D-EF09-4B0E-A660-3FE6BCB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FAF1-F8D4-40AB-90DF-4B348206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CD42-5734-4614-ACFE-1D50004A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0C9E-A8C5-4496-8D93-FE41E4EA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C31-E2C8-4D19-BF58-4A9CE55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7440" y="6424200"/>
            <a:ext cx="57121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A5A0-DC62-41B9-9871-3E9568B735B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6640" y="6424200"/>
            <a:ext cx="57229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484-437E-457B-BCF3-8F510A65E5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EE82-9C15-4669-9FEA-DF31824B65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NIMD_logo_RGB"/>
          <p:cNvPicPr/>
          <p:nvPr/>
        </p:nvPicPr>
        <p:blipFill>
          <a:blip r:embed="rId2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NIMD_org_url_rgb"/>
          <p:cNvPicPr/>
          <p:nvPr/>
        </p:nvPicPr>
        <p:blipFill>
          <a:blip r:embed="rId3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2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F63C-9760-48BA-BB5F-761ABDB0C5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cemi-tunis.org/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71760" y="5991120"/>
            <a:ext cx="37306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860d"/>
                </a:solidFill>
                <a:latin typeface="Arial"/>
              </a:rPr>
              <a:t>NIMD | From parties for parties</a:t>
            </a:r>
            <a:endParaRPr b="1" lang="en-US" sz="20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440" y="5008320"/>
            <a:ext cx="7916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Jerome Schel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84360" y="3398760"/>
            <a:ext cx="7723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60d"/>
                </a:solidFill>
                <a:latin typeface="Arial"/>
              </a:rPr>
              <a:t>NIMD’s approach to Democrac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Design 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6080" y="1012320"/>
            <a:ext cx="90075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sign consideration for Don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tical programming and education require flexibility and long ter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/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-trap (or cascade roll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 for Transfer, not for Topic: plan as ‘reverse pyrami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ing partner identification (e.g. wider frame of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eutral facilitator (crisis mitigation) -&gt; Diplomatic -&gt; political mover 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te -&gt; activ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hort term impact measurement or causalities as indicators for PM&amp;E or Intervention Log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20840" y="1160640"/>
            <a:ext cx="8611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-political civil socie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politicians / party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nts of change” or “changing the agents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R / activism)         (Politics / Diplo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420840" y="1160640"/>
            <a:ext cx="8611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-down or Bottom-up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rickle-down or Mass-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National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achieve system chang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mmunity level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seek direct impact on citizens’ daily li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(in terms of efficiency, not princip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47760" y="1030320"/>
            <a:ext cx="78962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Year-long monthly weekend school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ed at increasing skills and knowledge on democratic practises (value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un by Tunisian ngo CEMI (EU funded INSPIRED-partner) with financial and strategic support of international partners NIMD &amp; DEMO Finland (EPD-members) and BSoP (CoE-School), and with funding from CoE (…E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a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240000" y="3621240"/>
            <a:ext cx="3286080" cy="323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0" y="3621240"/>
            <a:ext cx="3240000" cy="103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3"/>
          <a:stretch/>
        </p:blipFill>
        <p:spPr>
          <a:xfrm>
            <a:off x="49320" y="465624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4"/>
          <a:stretch/>
        </p:blipFill>
        <p:spPr>
          <a:xfrm>
            <a:off x="6697800" y="5535720"/>
            <a:ext cx="2276280" cy="1322280"/>
          </a:xfrm>
          <a:prstGeom prst="rect">
            <a:avLst/>
          </a:prstGeom>
          <a:ln w="0">
            <a:noFill/>
          </a:ln>
        </p:spPr>
      </p:pic>
      <p:pic>
        <p:nvPicPr>
          <p:cNvPr id="336" name="Image 2" descr="CEM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26080" y="3619440"/>
            <a:ext cx="261792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217440" y="5686560"/>
            <a:ext cx="28036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4" descr="C:\Users\USER\Divers dossiers\Bulgarian logo.jpg"/>
          <p:cNvPicPr/>
          <p:nvPr/>
        </p:nvPicPr>
        <p:blipFill>
          <a:blip r:embed="rId8"/>
          <a:stretch/>
        </p:blipFill>
        <p:spPr>
          <a:xfrm>
            <a:off x="6697800" y="4656240"/>
            <a:ext cx="227628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 (TSoP)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27280" y="1030320"/>
            <a:ext cx="7280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gramme developed just after the “Arab Spring” in 2011, schools 2 classes started in 2012, 3 now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er to party leadership to send their ‘promising’ youth members. School makes final selection based on crit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ecently established multiparty system. Politicians lack democratic experi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Grooming new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Enforcing youth voice within all political part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p graduated in July 2012, of which 20 ANC-members + other hig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larger demand than plac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oP is now political and diplomatic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e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Resul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320840" y="420696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860d"/>
                </a:solidFill>
                <a:latin typeface="Arial"/>
              </a:rPr>
              <a:t>On NIMD: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36640" y="1117440"/>
            <a:ext cx="70516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MD was founded in The Netherlands in 2000 b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all Political Parties in Parli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 = Supporting democracy by strengthening political parties by working directly with political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a Interparty Dialogue, custom bilateral party support, peer-to-peer exchanges, policy process support, democrac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301680" y="1117440"/>
            <a:ext cx="1163520" cy="1500480"/>
            <a:chOff x="301680" y="1117440"/>
            <a:chExt cx="1163520" cy="1500480"/>
          </a:xfrm>
        </p:grpSpPr>
        <p:sp>
          <p:nvSpPr>
            <p:cNvPr id="301" name="AutoShape 5"/>
            <p:cNvSpPr/>
            <p:nvPr/>
          </p:nvSpPr>
          <p:spPr>
            <a:xfrm>
              <a:off x="301680" y="1117440"/>
              <a:ext cx="116136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6" descr=""/>
            <p:cNvPicPr/>
            <p:nvPr/>
          </p:nvPicPr>
          <p:blipFill>
            <a:blip r:embed="rId1"/>
            <a:stretch/>
          </p:blipFill>
          <p:spPr>
            <a:xfrm>
              <a:off x="301680" y="1117440"/>
              <a:ext cx="11635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8"/>
          <p:cNvSpPr/>
          <p:nvPr/>
        </p:nvSpPr>
        <p:spPr>
          <a:xfrm>
            <a:off x="360360" y="41464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ly working in 25 countr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in Africa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 in Latin Americ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Europ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As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in North Africa &amp;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matic regional/global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765680" y="372744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rt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xibility &amp; context specif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-term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IMD &amp; partners in Democracy Education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0840" y="1160640"/>
            <a:ext cx="8611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rument in wider democracy strengthening strategy to enhance democratic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IMD providing framework and experience: ‘Democracy Schools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s help to design curriculum and adapt to local contex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 in 7 country programm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communi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Mozambique, Egypt, Georgia, Indonesia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political par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Tunisia, Guatemala, Malawi, Egypt (pilo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3880" y="367920"/>
            <a:ext cx="73756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audience, different approa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37"/>
          <p:cNvSpPr/>
          <p:nvPr/>
        </p:nvSpPr>
        <p:spPr>
          <a:xfrm>
            <a:off x="484200" y="2932200"/>
            <a:ext cx="40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Civi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orm civil society at lar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local political activists, grassroots campaigners, social entrepren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key principles of political public eng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practical knowledge for political engagement and technics for political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kills and confidence builder for wide political engagement an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eft Arrow 1"/>
          <p:cNvSpPr/>
          <p:nvPr/>
        </p:nvSpPr>
        <p:spPr>
          <a:xfrm>
            <a:off x="696960" y="1465200"/>
            <a:ext cx="2190600" cy="11667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itizens &amp; community l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56080" y="1754280"/>
            <a:ext cx="2031840" cy="590400"/>
          </a:xfrm>
          <a:prstGeom prst="rect">
            <a:avLst/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mocrac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ight Arrow 3"/>
          <p:cNvSpPr/>
          <p:nvPr/>
        </p:nvSpPr>
        <p:spPr>
          <a:xfrm>
            <a:off x="6226200" y="1508040"/>
            <a:ext cx="2133720" cy="11239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4572000" y="2928960"/>
            <a:ext cx="415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Politica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rom key polit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established political figures &amp; national civil society lea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dresses key issues of national policy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erience of participants becomes key learning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ust builder that can lead to opportunities to bring together opposing political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, Skills, Values; theory (applied during) &amp; practice (in and outside class, parallel to and aft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‘Political Studies’, but a ‘Political MB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depends on audience/target group and country context; political,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development of curricu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ool/Education more sustainable then ‘a’ training; deeper knowledge &amp; experience +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-party interperso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um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 in sustaining the process. Community of alumn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an objective in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par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 stakeh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tforms for saf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y exchange /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par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s implicit think tanks (Georgia local counc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&amp;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rategy, political manoeuvre space &amp;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consid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ofile criteria &amp;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&amp; Commitment, tricks for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, during, 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/managers &amp; Teachers/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fferen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ocal were possible, external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est)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o’s interest? -&gt; not too many foreign politicians p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2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ion or Iso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requency: period of the w/m/y -&gt; homework -&gt; lo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ety i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upply &amp;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ve &amp;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amp;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to peer focus: adult learning styles and method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05560">
              <a:lnSpc>
                <a:spcPct val="120000"/>
              </a:lnSpc>
              <a:spcBef>
                <a:spcPts val="700"/>
              </a:spcBef>
              <a:buClr>
                <a:srgbClr val="ff8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E WANT GROUP 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3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85760" y="1050480"/>
            <a:ext cx="89582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visits &amp;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ere is the value, what are the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democratic skills exist? or only democracy values &amp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knowledge next to political skills bound by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e conscious of over moralizing, 90% of activities with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emocracies is political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political skills might we not want to teac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21:03Z</dcterms:created>
  <dc:creator>nimd</dc:creator>
  <dc:description/>
  <dc:language>en-US</dc:language>
  <cp:lastModifiedBy>Visitor-G4</cp:lastModifiedBy>
  <dcterms:modified xsi:type="dcterms:W3CDTF">2013-06-20T12:15:40Z</dcterms:modified>
  <cp:revision>95</cp:revision>
  <dc:subject/>
  <dc:title>Dia 1</dc:title>
</cp:coreProperties>
</file>