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05200" y="93596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31FD2C2-52D8-46F8-8B4E-1D09E0C888E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101D7C5-C986-406A-AF07-62C1EC3FD8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68360" y="318960"/>
            <a:ext cx="5854680" cy="4391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2EFC4D4-35BC-4B3C-8572-B9398639A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8AE0691-38FA-4FD1-89DB-3695D8D2B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CA6C60D-BC6C-4CA3-9168-DEFCFEEE4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countries that go further and faster wit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cratic reforms will be able to count on gre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from the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82C-ED74-4E12-B0D7-6D40D7C6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81B-5240-44A3-AC9F-A5C2DD83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D6B-BAE1-4B2A-8C06-53A1298C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E66-A11A-4D68-95E7-F52EEFA5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A6FE-A324-47E3-A46D-877124B0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8F53-BCA8-4CC1-88AA-9C154A4E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B3DB-5C84-4EDC-8A42-A1D06576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AD8C-0082-4F8C-8CD0-C30790A6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8FCF-C270-4525-9F05-8277B31F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B149-5EB1-4E85-8EE0-E8CB87AE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46E9-2CC7-4207-B67C-DD1195D9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B08-E950-4EA6-8E82-40D0A0ED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A22B-E006-4028-A57D-048585EC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CDC2-B57C-4B80-8881-42F77F8A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D60C-0E71-4987-BF19-8E54CE22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B9D6-04BB-4257-A633-0593D227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4087-0BB8-4F69-9088-864A6ADF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8AE-EA6A-4A6D-9EFD-4D5AA679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527-EF9D-43DB-A224-3B3EE2A8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46A-343D-448B-9FF7-F59FC0F3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712-FDB0-4265-8813-9570C159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9C6-5BB1-44D6-B15F-40930E0C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C68-6D8B-4031-BD33-958401BA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B00-9113-431E-8852-6759E2D0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1371-F680-4274-BA66-3D448FA954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7AE1-514F-4167-8606-9C3BDF34D30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GB" sz="2900" spc="-1" strike="noStrike">
                <a:solidFill>
                  <a:srgbClr val="ffd624"/>
                </a:solidFill>
                <a:latin typeface="Verdana"/>
              </a:rPr>
              <a:t>CIVIC EDUCATION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en-GB" sz="2900" spc="-1" strike="noStrike">
                <a:solidFill>
                  <a:srgbClr val="ffd624"/>
                </a:solidFill>
                <a:latin typeface="Verdana"/>
              </a:rPr>
              <a:t>"</a:t>
            </a: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the skill we need to live well </a:t>
            </a:r>
            <a:br>
              <a:rPr sz="2000"/>
            </a:b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in a family and community"</a:t>
            </a:r>
            <a:br>
              <a:rPr sz="2000"/>
            </a:br>
            <a:br>
              <a:rPr sz="22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640" y="4868640"/>
            <a:ext cx="88916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 </a:t>
            </a:r>
            <a:br>
              <a:rPr sz="2800"/>
            </a:b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iolo Boncompagni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DEVCO – B1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policy dialogue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, the EU encourages States to engage in CE and Voter Education activities, as well as to introduce CE in the national curricula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als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supports local actors and domestically owned processes of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at complement political dialogue and institutional capacity building, mostly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U’s geographical instrument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works wit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CSOs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o promote greater participation of people in decision-making at all levels, including an equal participation of men and women and different identity group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invests in democracy education through the EIDHR funded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gional Master’s programmes in Human Rights and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(network of 81 universities around the world with an average of 250 students trained every year)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EIDHR Case stud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7592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a): DR Congo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. Consolidation de la démocratie et de la gouvernance participatives au sein des entités locales de la ville de Kinshasa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EUR 65.000, Consolidaiton of weak communiti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Target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000 qualified people 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(elected and officers) of which 30% women, 40% young,  30% adul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Beneficiarie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800 qualified voters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 of which 500 men, 600 women, 700 young peopl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2. Education à la culture électorale et à la citoyenneté responsable dans les villes et territoires de la Province du Kasai Orient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01/2011 – 03/2012, EUR 10.000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Awareness raising of Local NGOs, HRDs, pres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360 trainers + 60 journalis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Workshops, 4000 booklets and 20000 flyers, media campaign, monthly “Facilitateur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Lesson learned: effectiveness of the “approche de proximité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b): Indones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1. Enhancing Representation Function of DPRD Members through Civic Education for Youth Political Party Cadres and Building Relation between DPRD Members and their Constituen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100.000, 15 months,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7 political parties 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in 42 distric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Improving public participation and representation capacity of local MPs through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a. Sustainable institutional education (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basic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60 “under-40” MPs, 30% women for a new project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b. Effective constituency outreach (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advanced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40 “under-40” MPs, 30% women to follow-up a previous on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good lobby needed, useful to support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2. Minimizing the apathy of Marginal Elderly and the Disabled through Civic Education and Electoral Dissemination for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300.000, Information and education on electoral processes and voter educ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Recruitment and capacity building of volunteers through door to door visits, community based art performance, religious performance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c): Serb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1.E-learning school of Democracy and HRs for future decision maker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Partners for Democratic Change Serbia, EUR 50.000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Development of a website: 3 months online course for a pilot group of 100 student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Topics: </a:t>
            </a: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HRs in general and in Serbia; Rule of Law and Fair trial; Good Governance and Anti Corruption; International instruments; Anti Discrimination; Ecosoc; LGBT, women and children; Conflict prevention and resolution; Transitional justic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Risks: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low interest: adequate selection proc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b. lack of IT knowledge: user friendly software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2. Regional Academy for Democracy. Shaping the European future of the Balka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7 Countries, 150 political leaders involved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creation of a regional network of CSOs - b. Education of young leaders - c. Improving  of political awaren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12 capacity-building seminars (4 x 3 years) on Justice and Security Cooperation, Human and Minority Rights, Building Democratic Institutio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57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230480" y="3573360"/>
            <a:ext cx="667512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673280" y="1989000"/>
            <a:ext cx="5724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200" spc="-1" strike="noStrike">
                <a:solidFill>
                  <a:srgbClr val="000092"/>
                </a:solidFill>
                <a:latin typeface="Verdana"/>
              </a:rPr>
              <a:t>1. What is C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3166920" y="2637000"/>
            <a:ext cx="324828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a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479520" y="2492280"/>
            <a:ext cx="821988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olicies and Action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hich aim to empowe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itizen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in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ercise/defend thei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tic rights and     responsibilitie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socie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valu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ivers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lay an active par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democratic life with a view to the promotion/protection of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cy and the Rule of Law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b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17520" y="1628640"/>
            <a:ext cx="8642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Lifelong learning process 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that concerns all ages, all parts of society at all levels, including preschool, primary, secondary and higher education, in all forms, in a public or private, formal, informal or non-formal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t also includes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vocational training, the training of trainers, teachers and State officials, continuing education, popular education, public information and awareness activities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 and makes use of media and new technolo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Essential element to the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R to Education, particularly of young people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ross-cutting issue of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MDG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lose interrelations and mutually supportive with the broader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uman Rights Education (HRE)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, whose specific focus is on universal human rights and fundamental freedoms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2. What is CE (c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892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ivil and political righ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in democratic life of a Country; in particular, 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mpowering freedom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– freedom of expression, association and assembly – which underpin democracy and enable effective advocacy for all rights (including social, economic and cultural) and allow citizens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laim those right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b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sponsibili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 (such as moral, social, economic) deriving from the status of belonging to a society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c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evelopment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luralist political process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respect for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social diversity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namely of people belonging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minority group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(ethnics, religious, linguistic, sexual) and comprehension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ifferent viewpoin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perspectives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ree and activ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articipation of all citizens to the working of public institution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such as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ational parliaments, local assemblies and political par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with a special focus on the role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lected representativ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o hold the state accountabl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e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full electoral cycle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voter education as a part of electoral assistance, and the knowledge of the electoral system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onstitution and fundamental law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their impact on traditional practices and traditional law, and the delivery of the good PA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g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independent and well-functioning justice system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the principles of criminal law and proceedings, access to justice, impunity and anti-corruption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422360" y="2924280"/>
            <a:ext cx="62960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States have the primary responsibility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o promote CE: the varying local political context must be taken into account (e.g.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consolidated or transitional democracy, post-conflict situation, authoritarian government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Adequate strategic policies and actions must involve all relevant stakeholders, including the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vate sector, CSOs, HRDs and other International Organisations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lready engaged in this the field (OECD, UNESCO, OSCE, CoE, etc.). Their concrete role depends on the local circumstances and on the specific attitude of the govern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57592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s a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top-down (policies) and a bottom-up process (activities),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 combination of teaching and learning, through “experience” or doing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nvolves a broad range of practices and activities: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ducation, training, dissemination, information, awareness-raising, but also direct participation in local political processes and election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For the EU is a tool t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ncourage in partner countries a culture of democratisation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Strategic support to policy-makers includes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forming, implementing, reviewing and sustaining policie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iming to establish sustainable forms of democracy in society and contributing, in this way, to prevent violence, racism, extremism, discrimination and making a major social cohesion and justic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ONCOMPAGNI Angiolo (DEVCO)</cp:lastModifiedBy>
  <cp:lastPrinted>2013-06-19T16:14:16Z</cp:lastPrinted>
  <dcterms:modified xsi:type="dcterms:W3CDTF">2013-06-20T07:06:58Z</dcterms:modified>
  <cp:revision>221</cp:revision>
  <dc:subject/>
  <dc:title>Slide 1</dc:title>
</cp:coreProperties>
</file>