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896760" y="739800"/>
            <a:ext cx="492768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3596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05200" y="935964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0C9CFA0B-6CF0-4A2F-9BA8-A090BAC91078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05200" y="93600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216F933-52A2-447B-AF23-B448990072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468360" y="318960"/>
            <a:ext cx="5854680" cy="43912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95320" y="4683240"/>
            <a:ext cx="492768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05200" y="93600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E745DAC6-48AC-43B3-9ED1-41578E99ED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349200" y="247680"/>
            <a:ext cx="5950080" cy="44625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895320" y="4683240"/>
            <a:ext cx="49276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05200" y="93600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0652C369-1A8F-465D-9E61-F94CC885BF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349200" y="247680"/>
            <a:ext cx="5950080" cy="44625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95320" y="4683240"/>
            <a:ext cx="49276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05200" y="93600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5037B7FD-FA89-46D5-B4BC-D688D73182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49200" y="247680"/>
            <a:ext cx="5950080" cy="44625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95320" y="4683240"/>
            <a:ext cx="49276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9676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countries that go further and faster with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mocratic reforms will be able to count on great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from the 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33ED-0718-4D3D-A6BC-A6532D415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E656-D1A7-4FBC-AE93-592F4902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B0AE-28A2-4F97-8CFF-8C8B63F5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6E8B-4786-4B20-982C-1C106E8D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0829-BA70-496C-8DB4-DE8E08D2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4D2E-1769-468F-A9F7-957C1B51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3FF2-F039-4BC1-BEB3-E742A0FE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2F32-EAD9-43E7-97BD-679AB2A7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AC7F-DD90-401F-8BAB-E1B82812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DF31-4E1C-40C2-8D5E-DA19BAEC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A1A3-31AE-4C3B-B76A-0AC1DD77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3C02-6C8C-4CDD-8887-C39DD957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EBC6-F396-4597-B220-6BB70EE7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D269-541A-40CA-91D7-DCBA72F6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4ED8-B58F-42B9-94D2-EA4BA64A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0EE8-AD11-40C8-ACC3-41BB2B790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AE30-64B3-493B-8B09-9614B527A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438B-43E5-4023-8830-328297C4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8C03-EC66-4AFE-A93F-51D63699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1BE3-7B01-408C-89C9-642C3D04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864B-3E1F-4A50-B8C9-7D1B5E20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9D1D-FFBB-467F-A4E6-A0D4464D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7A2E-27AD-4E9B-8E49-3F912E0C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E89E-BC22-4FAA-8333-E1A313E6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7F45-5CA3-4674-B3D5-B75B792C86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9025-A28C-437A-9BA9-8C10A9B07C6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39640" y="1988640"/>
            <a:ext cx="532764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en-GB" sz="2900" spc="-1" strike="noStrike">
                <a:solidFill>
                  <a:srgbClr val="ffd624"/>
                </a:solidFill>
                <a:latin typeface="Verdana"/>
              </a:rPr>
              <a:t>CIVIC EDUCATION</a:t>
            </a: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i="1" lang="en-GB" sz="2900" spc="-1" strike="noStrike">
                <a:solidFill>
                  <a:srgbClr val="ffd624"/>
                </a:solidFill>
                <a:latin typeface="Verdana"/>
              </a:rPr>
              <a:t>"</a:t>
            </a:r>
            <a:r>
              <a:rPr b="1" i="1" lang="en-GB" sz="2000" spc="-1" strike="noStrike">
                <a:solidFill>
                  <a:srgbClr val="ffd624"/>
                </a:solidFill>
                <a:latin typeface="Verdana"/>
              </a:rPr>
              <a:t>the skill we need to live well </a:t>
            </a:r>
            <a:br>
              <a:rPr sz="2000"/>
            </a:br>
            <a:r>
              <a:rPr b="1" i="1" lang="en-GB" sz="2000" spc="-1" strike="noStrike">
                <a:solidFill>
                  <a:srgbClr val="ffd624"/>
                </a:solidFill>
                <a:latin typeface="Verdana"/>
              </a:rPr>
              <a:t>in a family and community"</a:t>
            </a:r>
            <a:br>
              <a:rPr sz="2000"/>
            </a:br>
            <a:br>
              <a:rPr sz="2200"/>
            </a:b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7640" y="4868640"/>
            <a:ext cx="889164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en-US" sz="2800" spc="-1" strike="noStrike">
                <a:solidFill>
                  <a:srgbClr val="0000cc"/>
                </a:solidFill>
                <a:latin typeface="Verdana"/>
              </a:rPr>
              <a:t> </a:t>
            </a:r>
            <a:br>
              <a:rPr sz="2800"/>
            </a:b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giolo Boncompagni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G DEVCO – B1</a:t>
            </a: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European Commission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3. Approach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Through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policy dialogue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, the EU encourages States to engage in CE and Voter Education activities, as well as to introduce CE in the national curricula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The EU also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supports local actors and domestically owned processes of democratisation 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that complement political dialogue and institutional capacity building, mostly through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EU’s geographical instrument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The EU works with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CSOs 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to promote greater participation of people in decision-making at all levels, including an equal participation of men and women and different identity groups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The EU invests in democracy education through the EIDHR funded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gional Master’s programmes in Human Rights and Democratisation 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(network of 81 universities around the world with an average of 250 students trained every year).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Verdana"/>
              </a:rPr>
              <a:t>EIDHR Case studi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3203640" y="2421000"/>
            <a:ext cx="575928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Case study (a): DR Congo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99"/>
                </a:solidFill>
                <a:latin typeface="Verdana"/>
              </a:rPr>
              <a:t>1. Consolidation de la démocratie et de la gouvernance participatives au sein des entités locales de la ville de Kinshasa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- EUR 65.000, Consolidaiton of weak communitie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- Target: </a:t>
            </a:r>
            <a:r>
              <a:rPr b="1" lang="pt-PT" sz="1600" spc="-1" strike="noStrike">
                <a:solidFill>
                  <a:srgbClr val="000099"/>
                </a:solidFill>
                <a:latin typeface="Verdana"/>
              </a:rPr>
              <a:t>1000 qualified people </a:t>
            </a: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(elected and officers) of which 30% women, 40% young,  30% adul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- Beneficiaries: </a:t>
            </a:r>
            <a:r>
              <a:rPr b="1" lang="pt-PT" sz="1600" spc="-1" strike="noStrike">
                <a:solidFill>
                  <a:srgbClr val="000099"/>
                </a:solidFill>
                <a:latin typeface="Verdana"/>
              </a:rPr>
              <a:t>1800 qualified voters</a:t>
            </a: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 of which 500 men, 600 women, 700 young people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99"/>
                </a:solidFill>
                <a:latin typeface="Verdana"/>
              </a:rPr>
              <a:t>2. Education à la culture électorale et à la citoyenneté responsable dans les villes et territoires de la Province du Kasai Orienta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- 01/2011 – 03/2012, EUR 10.000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- Awareness raising of Local NGOs, HRDs, press: </a:t>
            </a:r>
            <a:r>
              <a:rPr b="1" lang="pt-PT" sz="1600" spc="-1" strike="noStrike">
                <a:solidFill>
                  <a:srgbClr val="000099"/>
                </a:solidFill>
                <a:latin typeface="Verdana"/>
              </a:rPr>
              <a:t>360 trainers + 60 journalis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- Workshops, 4000 booklets and 20000 flyers, media campaign, monthly “Facilitateur”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- Lesson learned: effectiveness of the “approche de proximité”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Case study (b): Indonesia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773000"/>
            <a:ext cx="8928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Verdana"/>
              </a:rPr>
              <a:t>1. Enhancing Representation Function of DPRD Members through Civic Education for Youth Political Party Cadres and Building Relation between DPRD Members and their Constituen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- EUR 100.000, 15 months, </a:t>
            </a:r>
            <a:r>
              <a:rPr b="1" lang="en-GB" sz="1600" spc="-1" strike="noStrike">
                <a:solidFill>
                  <a:srgbClr val="000099"/>
                </a:solidFill>
                <a:latin typeface="Verdana"/>
              </a:rPr>
              <a:t>7 political parties </a:t>
            </a: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in 42 distric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- Improving public participation and representation capacity of local MPs through: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a. Sustainable institutional education ( </a:t>
            </a:r>
            <a:r>
              <a:rPr b="1" lang="en-GB" sz="1600" spc="-1" strike="noStrike">
                <a:solidFill>
                  <a:srgbClr val="000099"/>
                </a:solidFill>
                <a:latin typeface="Verdana"/>
              </a:rPr>
              <a:t>“basic” CE</a:t>
            </a: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) 60 “under-40” MPs, 30% women for a new project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b. Effective constituency outreach (</a:t>
            </a:r>
            <a:r>
              <a:rPr b="1" lang="en-GB" sz="1600" spc="-1" strike="noStrike">
                <a:solidFill>
                  <a:srgbClr val="000099"/>
                </a:solidFill>
                <a:latin typeface="Verdana"/>
              </a:rPr>
              <a:t>“advanced” CE</a:t>
            </a: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) 40 “under-40” MPs, 30% women to follow-up a previous one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- good lobby needed, useful to support 2014 election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Verdana"/>
              </a:rPr>
              <a:t>2. Minimizing the apathy of Marginal Elderly and the Disabled through Civic Education and Electoral Dissemination for 2014 Election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- EUR 300.000, Information and education on electoral processes and voter educatio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- Recruitment and capacity building of volunteers through door to door visits, community based art performance, religious performance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Case study (c): Serbia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773000"/>
            <a:ext cx="8928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Verdana"/>
              </a:rPr>
              <a:t>1.E-learning school of Democracy and HRs for future decision maker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- Partners for Democratic Change Serbia, EUR 50.000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- Development of a website: 3 months online course for a pilot group of 100 student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en-GB" sz="1400" spc="-1" strike="noStrike">
                <a:solidFill>
                  <a:srgbClr val="000099"/>
                </a:solidFill>
                <a:latin typeface="Verdana"/>
              </a:rPr>
              <a:t>Topics: </a:t>
            </a: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HRs in general and in Serbia; Rule of Law and Fair trial; Good Governance and Anti Corruption; International instruments; Anti Discrimination; Ecosoc; LGBT, women and children; Conflict prevention and resolution; Transitional justice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- Risks: 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. low interest: adequate selection proces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b. lack of IT knowledge: user friendly software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Verdana"/>
              </a:rPr>
              <a:t>2. Regional Academy for Democracy. Shaping the European future of the Balkan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en-GB" sz="1400" spc="-1" strike="noStrike">
                <a:solidFill>
                  <a:srgbClr val="000099"/>
                </a:solidFill>
                <a:latin typeface="Verdana"/>
              </a:rPr>
              <a:t>7 Countries, 150 political leaders involved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. creation of a regional network of CSOs - b. Education of young leaders - c. Improving  of political awarenes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- 12 capacity-building seminars (4 x 3 years) on Justice and Security Cooperation, Human and Minority Rights, Building Democratic Institution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57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230480" y="3573360"/>
            <a:ext cx="6675120" cy="1511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1673280" y="1989000"/>
            <a:ext cx="572436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2"/>
          <p:cNvSpPr/>
          <p:nvPr/>
        </p:nvSpPr>
        <p:spPr>
          <a:xfrm>
            <a:off x="42847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020600"/>
            <a:ext cx="9144000" cy="507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3200" spc="-1" strike="noStrike">
                <a:solidFill>
                  <a:srgbClr val="000092"/>
                </a:solidFill>
                <a:latin typeface="Verdana"/>
              </a:rPr>
              <a:t>1. What is CE</a:t>
            </a:r>
            <a:br>
              <a:rPr sz="32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448632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3166920" y="2637000"/>
            <a:ext cx="3248280" cy="24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42847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020600"/>
            <a:ext cx="91440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2"/>
                </a:solidFill>
                <a:latin typeface="Verdana"/>
              </a:rPr>
              <a:t>1. What is CE  (a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448632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Rectangle 1"/>
          <p:cNvSpPr/>
          <p:nvPr/>
        </p:nvSpPr>
        <p:spPr>
          <a:xfrm>
            <a:off x="479520" y="2492280"/>
            <a:ext cx="8219880" cy="29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Policies and Actions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which aim to empower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itizens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in: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xercise/defend their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emocratic rights and     responsibilities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 society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value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iversity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play an active part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 democratic life with a view to the promotion/protection of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emocracy and the Rule of Law.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42847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020600"/>
            <a:ext cx="91440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2"/>
                </a:solidFill>
                <a:latin typeface="Verdana"/>
              </a:rPr>
              <a:t>1. What is CE  (b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448632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317520" y="1628640"/>
            <a:ext cx="86421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Lifelong learning process </a:t>
            </a: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that concerns all ages, all parts of society at all levels, including preschool, primary, secondary and higher education, in all forms, in a public or private, formal, informal or non-formal sett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It also includes </a:t>
            </a: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vocational training, the training of trainers, teachers and State officials, continuing education, popular education, public information and awareness activities</a:t>
            </a: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 and makes use of media and new technolog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Essential element to the </a:t>
            </a: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HR to Education, particularly of young people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Cross-cutting issue of </a:t>
            </a: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MDG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Close interrelations and mutually supportive with the broader </a:t>
            </a: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Human Rights Education (HRE)</a:t>
            </a: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, whose specific focus is on universal human rights and fundamental freedoms.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99"/>
                </a:solidFill>
                <a:latin typeface="Verdana"/>
              </a:rPr>
              <a:t>2. What is CE (c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000" y="1844640"/>
            <a:ext cx="8928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a.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civil and political rights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in democratic life of a Country; in particular, the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empowering freedoms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– freedom of expression, association and assembly – which underpin democracy and enable effective advocacy for all rights (including social, economic and cultural) and allow citizens to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claim those rights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b.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responsibilities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 (such as moral, social, economic) deriving from the status of belonging to a society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c.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development of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pluralist political processes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and respect for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social diversity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, namely of people belonging to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minority groups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(ethnics, religious, linguistic, sexual) and comprehension of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different viewpoints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and perspectives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d.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free and active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participation of all citizens to the working of public institutions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, such as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national parliaments, local assemblies and political parties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, with a special focus on the role of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elected representatives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to hold the state accountable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e.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the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full electoral cycle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, including voter education as a part of electoral assistance, and the knowledge of the electoral system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f.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constitution and fundamental laws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, including their impact on traditional practices and traditional law, and the delivery of the good PA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g.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an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independent and well-functioning justice system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and the principles of criminal law and proceedings, access to justice, impunity and anti-corruption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333399"/>
                </a:solidFill>
                <a:latin typeface="Verdana"/>
              </a:rPr>
              <a:t>2. Who is involved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Verdana"/>
              </a:rPr>
              <a:t>	</a:t>
            </a:r>
            <a:endParaRPr b="0" i="1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Verdana"/>
              </a:rPr>
              <a:t>	</a:t>
            </a:r>
            <a:endParaRPr b="0" i="1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422360" y="2924280"/>
            <a:ext cx="629604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2. Who is involved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- </a:t>
            </a: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States have the primary responsibility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to promote CE: the varying local political context must be taken into account (e.g. </a:t>
            </a: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consolidated or transitional democracy, post-conflict situation, authoritarian government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)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- Adequate strategic policies and actions must involve all relevant stakeholders, including the </a:t>
            </a: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private sector, CSOs, HRDs and other International Organisations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already engaged in this the field (OECD, UNESCO, OSCE, CoE, etc.). Their concrete role depends on the local circumstances and on the specific attitude of the government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Verdana"/>
              </a:rPr>
              <a:t>3. Approach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7138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3276720" y="2205000"/>
            <a:ext cx="575928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3. Approach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7138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CE is a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top-down (policies) and a bottom-up process (activities),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 a combination of teaching and learning, through “experience” or doing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CE involves a broad range of practices and activities: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education, training, dissemination, information, awareness-raising, but also direct participation in local political processes and elections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For the EU is a tool to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encourage in partner countries a culture of democratisation.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Strategic support to policy-makers includes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forming, implementing, reviewing and sustaining policies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 aiming to establish sustainable forms of democracy in society and contributing, in this way, to prevent violence, racism, extremism, discrimination and making a major social cohesion and justice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BONCOMPAGNI Angiolo (DEVCO)</cp:lastModifiedBy>
  <cp:lastPrinted>2013-06-19T16:14:16Z</cp:lastPrinted>
  <dcterms:modified xsi:type="dcterms:W3CDTF">2013-06-20T07:06:58Z</dcterms:modified>
  <cp:revision>221</cp:revision>
  <dc:subject/>
  <dc:title>Slide 1</dc:title>
</cp:coreProperties>
</file>