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05200" y="-36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05200" y="9359640"/>
            <a:ext cx="291168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D0BC2F7-C614-44D8-A0D8-D1FC8FC76FD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3882030-3E5F-4FB5-8EE8-85DF999721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68360" y="318960"/>
            <a:ext cx="5854680" cy="4391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283AFB8-550B-451A-89EF-E8FE87E3A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5D658B9-999C-4F23-ACA7-B113E3B92B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05200" y="9360000"/>
            <a:ext cx="2911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922866A-55C1-4293-A439-7405321317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49200" y="247680"/>
            <a:ext cx="5950080" cy="44625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95320" y="4683240"/>
            <a:ext cx="49276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9676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ners countries that go further and faster with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cratic reforms will be able to count on gre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from the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452-C786-4A00-AC27-3AACE114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3061-D148-4DE5-B435-699EB6FC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C35-158E-4709-9589-32C8C2E3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CD4-059C-4D45-9A74-92BAEFB1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B236-778B-4EA1-9A50-1F8D9FAC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C53E-44E7-44DD-AF33-2EF0A2FF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7471-6F0E-4143-808B-CE8F0084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99DE-E5DA-4898-AABC-05BB30FB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A4EE-BE7D-4F8B-B75B-49A362B6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6538-713C-446A-94DF-8BAB8858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FB12-A020-43CC-9B0D-48C2A2EC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9C3-A0A3-4201-9CB7-9735ACF4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76F5-4B02-4605-A4E7-0A0AA998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A7F9-26AA-44B9-B876-4C742D1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1476-1AEB-4D14-BDC7-3C87448A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6268-4F74-4AFF-B4B9-950CE345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C4AD-89FF-489E-B52F-16B0BA96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E89A-5ADF-4219-AB2B-58D0A13F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14BF-3BE5-42D4-B682-17E4717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780-F099-46AA-B1DD-8441B8E4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D05-5C68-4FAC-A39B-8F084D0B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A11-903D-46A7-B528-377E4F46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6ED-0396-483C-ACA7-60C177A7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CDE-E2F6-4EC7-9A32-63D19122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6059-18B9-4106-9381-AB0BE3F6BB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E2BA-287C-4E5E-873E-B6BD5BFA4FE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n-GB" sz="2900" spc="-1" strike="noStrike">
                <a:solidFill>
                  <a:srgbClr val="ffd624"/>
                </a:solidFill>
                <a:latin typeface="Verdana"/>
              </a:rPr>
              <a:t>CIVIC EDUCATION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en-GB" sz="2900" spc="-1" strike="noStrike">
                <a:solidFill>
                  <a:srgbClr val="ffd624"/>
                </a:solidFill>
                <a:latin typeface="Verdana"/>
              </a:rPr>
              <a:t>"</a:t>
            </a: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the skill we need to live well </a:t>
            </a:r>
            <a:br>
              <a:rPr sz="2000"/>
            </a:br>
            <a:r>
              <a:rPr b="1" i="1" lang="en-GB" sz="2000" spc="-1" strike="noStrike">
                <a:solidFill>
                  <a:srgbClr val="ffd624"/>
                </a:solidFill>
                <a:latin typeface="Verdana"/>
              </a:rPr>
              <a:t>in a family and community"</a:t>
            </a:r>
            <a:br>
              <a:rPr sz="2000"/>
            </a:br>
            <a:br>
              <a:rPr sz="22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640" y="4868640"/>
            <a:ext cx="889164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Verdana"/>
              </a:rPr>
              <a:t> </a:t>
            </a:r>
            <a:br>
              <a:rPr sz="2800"/>
            </a:b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giolo Boncompagni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DEVCO – B1</a:t>
            </a: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fr-BE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policy dialogue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, the EU encourages States to engage in CE and Voter Education activities, as well as to introduce CE in the national curricula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als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supports local actors and domestically owned processes of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hat complement political dialogue and institutional capacity building, mostly throug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U’s geographical instrument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works with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CSOs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to promote greater participation of people in decision-making at all levels, including an equal participation of men and women and different identity groups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The EU invests in democracy education through the EIDHR funded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Regional Master’s programmes in Human Rights and Democratisation 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(network of 81 universities around the world with an average of 250 students trained every year)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EIDHR Case studi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7592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a): DR Congo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. Consolidation de la démocratie et de la gouvernance participatives au sein des entités locales de la ville de Kinshasa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EUR 65.000, Consolidaiton of weak communiti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Target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000 qualified people 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(elected and officers) of which 30% women, 40% young,  30% adul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Beneficiarie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1800 qualified voters</a:t>
            </a: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 of which 500 men, 600 women, 700 young peopl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2. Education à la culture électorale et à la citoyenneté responsable dans les villes et territoires de la Province du Kasai Orienta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01/2011 – 03/2012, EUR 10.000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Awareness raising of Local NGOs, HRDs, press: </a:t>
            </a:r>
            <a:r>
              <a:rPr b="1" lang="pt-PT" sz="1600" spc="-1" strike="noStrike">
                <a:solidFill>
                  <a:srgbClr val="000099"/>
                </a:solidFill>
                <a:latin typeface="Verdana"/>
              </a:rPr>
              <a:t>360 trainers + 60 journalis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Workshops, 4000 booklets and 20000 flyers, media campaign, monthly “Facilitateur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99"/>
                </a:solidFill>
                <a:latin typeface="Verdana"/>
              </a:rPr>
              <a:t>- Lesson learned: effectiveness of the “approche de proximité”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b): Indones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1. Enhancing Representation Function of DPRD Members through Civic Education for Youth Political Party Cadres and Building Relation between DPRD Members and their Constituen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100.000, 15 months,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7 political parties 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in 42 distric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Improving public participation and representation capacity of local MPs through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a. Sustainable institutional education ( 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basic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60 “under-40” MPs, 30% women for a new project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b. Effective constituency outreach (</a:t>
            </a: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“advanced” CE</a:t>
            </a: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) 40 “under-40” MPs, 30% women to follow-up a previous one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good lobby needed, useful to support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Verdana"/>
              </a:rPr>
              <a:t>2. Minimizing the apathy of Marginal Elderly and the Disabled through Civic Education and Electoral Dissemination for 2014 Elec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EUR 300.000, Information and education on electoral processes and voter educ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Verdana"/>
              </a:rPr>
              <a:t>- Recruitment and capacity building of volunteers through door to door visits, community based art performance, religious performance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Case study (c): Serbia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1.E-learning school of Democracy and HRs for future decision maker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Partners for Democratic Change Serbia, EUR 50.000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Development of a website: 3 months online course for a pilot group of 100 student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Topics: </a:t>
            </a: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HRs in general and in Serbia; Rule of Law and Fair trial; Good Governance and Anti Corruption; International instruments; Anti Discrimination; Ecosoc; LGBT, women and children; Conflict prevention and resolution; Transitional justic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Risks: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low interest: adequate selection proc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b. lack of IT knowledge: user friendly software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2. Regional Academy for Democracy. Shaping the European future of the Balka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</a:t>
            </a:r>
            <a:r>
              <a:rPr b="1" lang="en-GB" sz="1400" spc="-1" strike="noStrike">
                <a:solidFill>
                  <a:srgbClr val="000099"/>
                </a:solidFill>
                <a:latin typeface="Verdana"/>
              </a:rPr>
              <a:t>7 Countries, 150 political leaders involved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. creation of a regional network of CSOs - b. Education of young leaders - c. Improving  of political awarenes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- 12 capacity-building seminars (4 x 3 years) on Justice and Security Cooperation, Human and Minority Rights, Building Democratic Institutions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57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230480" y="3573360"/>
            <a:ext cx="6675120" cy="1511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673280" y="1989000"/>
            <a:ext cx="5724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507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200" spc="-1" strike="noStrike">
                <a:solidFill>
                  <a:srgbClr val="000092"/>
                </a:solidFill>
                <a:latin typeface="Verdana"/>
              </a:rPr>
              <a:t>1. What is CE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3166920" y="2637000"/>
            <a:ext cx="324828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a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479520" y="2492280"/>
            <a:ext cx="821988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olicies and Action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hich aim to empowe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citizens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in: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exercise/defend their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tic rights and     responsibilities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socie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value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ivers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play an active part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in democratic life with a view to the promotion/protection of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emocracy and the Rule of Law.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2847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020600"/>
            <a:ext cx="91440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2"/>
                </a:solidFill>
                <a:latin typeface="Verdana"/>
              </a:rPr>
              <a:t>1. What is CE  (b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8632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317520" y="1628640"/>
            <a:ext cx="86421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Lifelong learning process 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that concerns all ages, all parts of society at all levels, including preschool, primary, secondary and higher education, in all forms, in a public or private, formal, informal or non-formal sett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It also includes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vocational training, the training of trainers, teachers and State officials, continuing education, popular education, public information and awareness activities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 and makes use of media and new technologie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Essential element to the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R to Education, particularly of young people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ross-cutting issue of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MDG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Close interrelations and mutually supportive with the broader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Human Rights Education (HRE)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, whose specific focus is on universal human rights and fundamental freedoms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333399"/>
                </a:solidFill>
                <a:latin typeface="Verdana"/>
              </a:rPr>
              <a:t>2. What is CE (c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844640"/>
            <a:ext cx="892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ivil and political righ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in democratic life of a Country; in particular, 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mpowering freedom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– freedom of expression, association and assembly – which underpin democracy and enable effective advocacy for all rights (including social, economic and cultural) and allow citizens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laim those right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b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responsibili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 (such as moral, social, economic) deriving from the status of belonging to a society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c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evelopment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luralist political process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respect for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social diversity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namely of people belonging to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minority group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(ethnics, religious, linguistic, sexual) and comprehension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different viewpoint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perspectives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d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ree and activ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participation of all citizens to the working of public institution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such as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national parliaments, local assemblies and political partie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with a special focus on the role of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elected representatives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o hold the state accountable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e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the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full electoral cycle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voter education as a part of electoral assistance, and the knowledge of the electoral system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f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constitution and fundamental laws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, including their impact on traditional practices and traditional law, and the delivery of the good PA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g.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 </a:t>
            </a:r>
            <a:r>
              <a:rPr b="1" lang="en-GB" sz="1400" spc="-1" strike="noStrike">
                <a:solidFill>
                  <a:srgbClr val="333399"/>
                </a:solidFill>
                <a:latin typeface="Verdana"/>
              </a:rPr>
              <a:t>independent and well-functioning justice system </a:t>
            </a:r>
            <a:r>
              <a:rPr b="0" lang="en-GB" sz="1400" spc="-1" strike="noStrike">
                <a:solidFill>
                  <a:srgbClr val="333399"/>
                </a:solidFill>
                <a:latin typeface="Verdana"/>
              </a:rPr>
              <a:t>and the principles of criminal law and proceedings, access to justice, impunity and anti-corruption.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Verdana"/>
              </a:rPr>
              <a:t>	</a:t>
            </a:r>
            <a:endParaRPr b="0" i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422360" y="2924280"/>
            <a:ext cx="62960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2. Who is involved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States have the primary responsibility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to promote CE: the varying local political context must be taken into account (e.g.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consolidated or transitional democracy, post-conflict situation, authoritarian government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- Adequate strategic policies and actions must involve all relevant stakeholders, including the </a:t>
            </a:r>
            <a:r>
              <a:rPr b="1" lang="en-GB" sz="2000" spc="-1" strike="noStrike">
                <a:solidFill>
                  <a:srgbClr val="333399"/>
                </a:solidFill>
                <a:latin typeface="Verdana"/>
              </a:rPr>
              <a:t>private sector, CSOs, HRDs and other International Organisations </a:t>
            </a:r>
            <a:r>
              <a:rPr b="0" lang="en-GB" sz="2000" spc="-1" strike="noStrike">
                <a:solidFill>
                  <a:srgbClr val="333399"/>
                </a:solidFill>
                <a:latin typeface="Verdana"/>
              </a:rPr>
              <a:t>already engaged in this the field (OECD, UNESCO, OSCE, CoE, etc.). Their concrete role depends on the local circumstances and on the specific attitude of the govern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57592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3. Approach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713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s a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top-down (policies) and a bottom-up process (activities),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 combination of teaching and learning, through “experience” or doing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CE involves a broad range of practices and activities: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ducation, training, dissemination, information, awareness-raising, but also direct participation in local political processes and election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For the EU is a tool to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encourage in partner countries a culture of democratisation.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- Strategic support to policy-makers includes 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forming, implementing, reviewing and sustaining policies</a:t>
            </a:r>
            <a:r>
              <a:rPr b="0" lang="en-GB" sz="1800" spc="-1" strike="noStrike">
                <a:solidFill>
                  <a:srgbClr val="333399"/>
                </a:solidFill>
                <a:latin typeface="Verdana"/>
              </a:rPr>
              <a:t> aiming to establish sustainable forms of democracy in society and contributing, in this way, to prevent violence, racism, extremism, discrimination and making a major social cohesion and justice.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BONCOMPAGNI Angiolo (DEVCO)</cp:lastModifiedBy>
  <cp:lastPrinted>2013-06-19T16:14:16Z</cp:lastPrinted>
  <dcterms:modified xsi:type="dcterms:W3CDTF">2013-06-20T07:06:58Z</dcterms:modified>
  <cp:revision>221</cp:revision>
  <dc:subject/>
  <dc:title>Slide 1</dc:title>
</cp:coreProperties>
</file>