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F211-FC83-4023-85D6-58B0EF6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A86-4055-4515-878D-EE13E711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8DD-B739-4A22-8610-4CD5A26A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4FC9-818B-413A-AE6D-A4C3CC5F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1925-508E-42BA-A614-A0FC9CA6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5986-5F2C-41CD-A1A0-8F84683D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70D-568C-4931-A6CC-E55BC2BE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B8AF-6ACE-4BC8-B98B-49EF399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565C-DB10-4C01-9D29-72A3787A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DD87-00EE-4BDD-9F11-78A0C3AC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2518-B64D-4E6E-9553-19040B5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560-7608-424D-832E-45E6431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F39B-FDA2-4B9D-B546-CAA933B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1E2A-D074-4D4B-B215-A27F7C7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287C-418E-464B-B2D4-DBF2F289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34A-39A4-484E-A1C2-306A5AC3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44D7-9CE3-41FD-B20D-184166B5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ACD-D959-4651-84CF-D13AF9AE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41D-86FA-4FF5-AFE6-B9F69031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DEC-68B9-40E3-8F6D-A67D9C7B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797-346C-424C-97DE-3B44421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2AD-C0DC-4B26-8B5D-DC8E6DA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E2B-232E-403A-97CB-28F0AB3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372-4A0C-41B5-A071-2400DDE0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EC0-1D4E-4D4A-AAB4-7ECF3E85AD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436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0" y="1349280"/>
            <a:ext cx="9144000" cy="55087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749760" y="378000"/>
            <a:ext cx="1942920" cy="134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4162320" y="6642000"/>
            <a:ext cx="8398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FE1F-2892-4796-89BD-5195F23431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4C45-C19E-44E6-A6A5-A551C11C44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of previous media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ccurat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values not always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focus on journalist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seen as “difficult” and “bureaucratic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A4D5-D15D-4797-BE5E-168A166949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a and account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of communication between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dog over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information asymmetry -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ctor in its own right – partisan, prejudiced, lacking in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39F3-4047-4D1E-83F4-53D147D91B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ine media – what does it chan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- peer to peer communication and content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news cycle, rapid interaction, changing models of news development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interactivity versus hierarchic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7299-6977-40CD-9AB0-2D07AC94F3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econom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s an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haping the behaviour of 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tential for change, incentives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asurement of behaviou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A6C-03E5-4B98-82C7-2D689C6FD6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A Matrix for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tructures, institutions, actors a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y of content and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ing PEA to 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upon political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local context (including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groups whose behaviour has to be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areas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media capa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50E-A5B7-4F82-9DEF-47E75DF6BE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 &amp; E challenge – the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rev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hostility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structures are complex and multi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dat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FB88-F4DE-4087-8356-405B788658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&amp; E – what are looking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do we w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vernment (the powerful) to be responsive and accou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are we looking f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in behaviour by governing and gove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y involve institutions structures, organis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questions – how is this programme going to make power more responsive and how will I know if behaviour ha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8A35-E523-46A3-8B0D-20DFA6A9E4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raining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Political economy matrix PEA to help prepare base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eparate modules – parliamentary support, electoral assistance, media/communications programmes with illustrativ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are interlin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urope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06B8-D000-4FCF-83A0-6910B440FF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drew Puddephatt</cp:lastModifiedBy>
  <dcterms:modified xsi:type="dcterms:W3CDTF">2013-06-20T09:07:23Z</dcterms:modified>
  <cp:revision>1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