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E55-89A3-4298-BEE1-07B547B2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385-B222-40FF-8F01-D07696F3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185-E2FE-4178-9C6C-06D410C9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F1FA-CE7D-449A-84CB-3C39D872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5878-3AB5-41C2-9A57-92EC4221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A3EB-D1FE-402C-872B-15CD2DDE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F427-8055-47EB-8058-05E902CE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4FBF-2C3E-4DEA-B9A8-4AF9F0B3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3D80-6161-4C08-B3C7-2A09CCAE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C6DF-B2D8-43F5-BC1B-8ACB4132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F181-ADFE-4C8D-A166-A27FE35C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EB0-0B0D-426E-A82C-D9456C42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1DD6-DFC7-4773-B5BD-CD0A8F7F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BEC3-58BC-4F98-8B15-82CAC747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44ED-B3F5-456A-8A9D-398BA563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03F6-3594-4338-AFA2-2CFBAC4B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4ED8-9936-4826-95DD-ACA4918C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C12-F30A-4DD3-ADCC-A10CC434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A2F-B0D9-4986-9D1F-6963371C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639-D804-4B07-A9E5-18582004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73D-4571-4EB1-8217-AE92981C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9A0-17D2-4817-AD50-64CA7831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1CE-31FF-4AA2-B990-7B0AD882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879-CA9B-4738-8DA0-5627814C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4D50-3FC2-4703-AD5A-20BC86A22E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436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0" y="1349280"/>
            <a:ext cx="9144000" cy="55087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749760" y="378000"/>
            <a:ext cx="1942920" cy="1349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4162320" y="6642000"/>
            <a:ext cx="8398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5EDB-0B6E-4326-BBB5-F193E70F17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51C2-39D4-44EE-A971-E87990E948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ons of previous media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ccurat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y con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values not always 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focus on journalist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seen as “difficult” and “bureaucrati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70E1-AAB0-4800-AAEE-06768114A8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and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of communication between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dog over pow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ng information asymmetry -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actor in its own right – partisan, prejudiced, lacking in cre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892C-C4E7-4C79-9A21-13A07079A3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ine media – what does it chang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al - peer to peer communication and content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hour news cycle, rapid interaction, changing models of news development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interactivity versus hierarchic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A13E-E928-4E9C-AF6F-59C2AE7674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economy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 an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haping the behaviour of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tential for change, incentives fo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asurement of behaviour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93D9-694D-4FD6-A889-C93CEDEF8A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A Matrix for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structures, institutions, actors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 and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 of content and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ing PEA to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upon political 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local context (including econom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for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roups whose behaviour has to be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areas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media capa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B174-4C6A-47D0-AF3E-749FEAE90D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 &amp; E challenge –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payer revo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ist hostility to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structures are complex and multi-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dat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eaucrat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62CA-A89B-42C4-9595-668D8AD660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&amp; E – what are looking f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do we w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overnment (the powerful) to be responsive and accou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are we looking f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nges in behaviour by governing and gov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y involve institutions structures, organis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questions – how is this programme going to make power more responsive and how will I know if behaviour has chang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BBB9-54CC-4695-9716-D2334B70D1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raining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olitical economy matrix PEA to help prepare baselin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separate modules – parliamentary support, electoral assistance, media/communications programmes with illustrativ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s are interlin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4B8B-AC7B-4933-ABA2-2DABAB39A6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andrew Puddephatt</cp:lastModifiedBy>
  <dcterms:modified xsi:type="dcterms:W3CDTF">2013-06-20T09:07:23Z</dcterms:modified>
  <cp:revision>1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