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02FF-6BC2-4F5B-9B47-27067E7B979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4489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E51DB59-0A51-4B7A-B4E1-77A606DFFE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ge  EEAS and EC/DEVCO ro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ctoral cycle and its integration into broader democracy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 of election issue; use of 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aining and practical guidance tools for EMBs and electoral support community of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s of elections &amp; Use of ICT in e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BCE-C204-47E1-894D-C88706B9B1A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D3FC-4999-406F-BE09-58414E614D6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928-E993-496D-B999-762A5954F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roving the coherence and effectiveness of EU support to democ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ists a set of values, norms and principles at the core of the Agenda  (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untry specific, partnership and dialogue, EU coherence and coordination, international cooperation, visibilit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lines the need of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comprehensive and long-term approac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going beyond electoral democracy – need to work on political institutions (parliaments and par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ilot countries have been identified to reinforce support and coh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0C7-5DBE-4C21-BB12-C878369F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BFF-06B1-4FDE-AF16-EF2FE2B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BFF-2735-4F10-8B7A-A254FB65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F07-6AA8-4AF1-9CCE-23EC5B80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2EF-9C5B-4656-A333-88CDD918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1C85-E932-4780-83D0-FAC08E3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84F7-2506-41F2-AF56-7E6F6EDA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5D91-16C4-4257-9A7A-BD920E0C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94F-1A51-46E9-8280-68090BBB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CE9D-D855-4033-8E96-05E80D92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3CA-5782-44F8-88E8-A321B24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999-D63C-4ABC-BC7C-52E3C33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D6FD-2A27-4C8D-BAFB-A40A4F94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84E8-33D7-45D3-87D7-E15F29B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A80-31D2-4419-9528-C0E0AB4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746D-4B9D-42AE-B798-F099DE59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EE59-E7BE-4AEE-962D-9555E09D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37E-6436-4D5A-85B7-46AE160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158-A19D-4D65-8764-15B071B2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209-F57C-4F79-AC91-CDD28CB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DE2-BD1F-4008-B250-CCFD908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D8A-9364-48A5-9A5D-B7EBBC7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DB2-1B1D-46EA-9539-BCD1E6C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613-4438-4648-8E25-D44412C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7E5-2A6D-4E7B-B844-C898E389100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5517-BE5D-4AD1-9863-4EBFE50B46A5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928520"/>
            <a:ext cx="85327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Implementation of Democracy Suppor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0 June 2013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530064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VCO B1 Democracy Tea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44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U Support to Democracy: a Policy Framework in Evolu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2060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2009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Council conclusions on Democracy Suppor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 the EU's External Relations: EU Agenda for Democracy Suppor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2011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: "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creasing the impact of EU Development Policy: an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Agenda for Chang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(COM 2011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sponding to recent challenges and developments such as the “Arab Spring” – Neighborhood policy adjust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uman rights, democracy and other key elements of good governance as one of the 2 priorities of EU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2012: </a:t>
            </a:r>
            <a:r>
              <a:rPr b="1" lang="en-US" sz="2000" spc="-1" strike="noStrike">
                <a:solidFill>
                  <a:srgbClr val="ffc000"/>
                </a:solidFill>
                <a:latin typeface="Verdana"/>
              </a:rPr>
              <a:t>EU Strategic Framework on Human Rights and Democrac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Action Plan, pilot countries, profi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emocracy support has never been higher on our agend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Arial"/>
              </a:rPr>
              <a:t>Key Areas for Democracy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96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Promoting 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  <a:ea typeface="Arial"/>
              </a:rPr>
              <a:t>credibl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electoral process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(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air, free &amp; transparent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fcd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cd200"/>
                </a:solidFill>
                <a:latin typeface="Verdana"/>
              </a:rPr>
              <a:t>Civic Education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Human Rights and Democracy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Masters, etc. building a culture of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democracy, educating voters and politicia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95200" y="3141720"/>
            <a:ext cx="8064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freedom of expression and an independent, viable and profession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media: on- and off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parlia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and their ability to interact with civil society and the med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pluralism and political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omestic accountability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366560"/>
            <a:ext cx="5511960" cy="75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U Electoral Suppor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2123640" y="2192400"/>
            <a:ext cx="8636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651640" y="2192400"/>
            <a:ext cx="10490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03440" y="4532400"/>
            <a:ext cx="344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8360" y="4941720"/>
            <a:ext cx="3024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or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796000" y="4941720"/>
            <a:ext cx="29527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io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619280" y="1341360"/>
            <a:ext cx="5616720" cy="85104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9" descr="reuters63838401806131637_big"/>
          <p:cNvPicPr/>
          <p:nvPr/>
        </p:nvPicPr>
        <p:blipFill>
          <a:blip r:embed="rId1"/>
          <a:stretch/>
        </p:blipFill>
        <p:spPr>
          <a:xfrm>
            <a:off x="3708360" y="278136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4149720"/>
            <a:ext cx="8020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or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ssistanc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technical or material suppor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iven to the electoral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io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observation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complemen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election assis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ly speaking, they are different activities but essentially they should be considered and programmed in a complementary m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2184480" y="49320"/>
            <a:ext cx="2425680" cy="32558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eaeaea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610160" y="3305160"/>
            <a:ext cx="2405160" cy="323676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610160" y="49320"/>
            <a:ext cx="2405160" cy="32558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610160" y="987480"/>
            <a:ext cx="3411360" cy="231768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4610160" y="3305160"/>
            <a:ext cx="3411360" cy="22986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2184480" y="3305160"/>
            <a:ext cx="2425680" cy="32367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201680" y="3297240"/>
            <a:ext cx="3411720" cy="2298600"/>
          </a:xfrm>
          <a:custGeom>
            <a:avLst/>
            <a:gdLst>
              <a:gd name="textAreaLeft" fmla="*/ 0 w 3411720"/>
              <a:gd name="textAreaRight" fmla="*/ 3412080 w 341172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1200240" y="987480"/>
            <a:ext cx="3409920" cy="231768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4603680" y="409680"/>
            <a:ext cx="2157480" cy="289872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460368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e9af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603680" y="330840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d392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4603680" y="3308400"/>
            <a:ext cx="2157480" cy="288144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bd75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2427120" y="3308400"/>
            <a:ext cx="2176560" cy="288144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a857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1544760" y="330048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923a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154296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7c1d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2427120" y="409680"/>
            <a:ext cx="2176560" cy="28987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6600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673440" y="2303640"/>
            <a:ext cx="1944720" cy="1873080"/>
          </a:xfrm>
          <a:prstGeom prst="ellipse">
            <a:avLst/>
          </a:prstGeom>
          <a:solidFill>
            <a:srgbClr val="ffffff"/>
          </a:solidFill>
          <a:ln w="36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2901960" y="1681200"/>
            <a:ext cx="3427200" cy="3249360"/>
            <a:chOff x="2901960" y="1681200"/>
            <a:chExt cx="3427200" cy="3249360"/>
          </a:xfrm>
        </p:grpSpPr>
        <p:sp>
          <p:nvSpPr>
            <p:cNvPr id="131" name="Freeform 20"/>
            <p:cNvSpPr/>
            <p:nvPr/>
          </p:nvSpPr>
          <p:spPr>
            <a:xfrm>
              <a:off x="4615560" y="1681200"/>
              <a:ext cx="1208160" cy="1630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0" h="156">
                  <a:moveTo>
                    <a:pt x="110" y="45"/>
                  </a:moveTo>
                  <a:cubicBezTo>
                    <a:pt x="81" y="16"/>
                    <a:pt x="41" y="0"/>
                    <a:pt x="0" y="0"/>
                  </a:cubicBezTo>
                  <a:lnTo>
                    <a:pt x="0" y="156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ffcc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46155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156" y="111"/>
                  </a:moveTo>
                  <a:cubicBezTo>
                    <a:pt x="156" y="69"/>
                    <a:pt x="139" y="29"/>
                    <a:pt x="110" y="0"/>
                  </a:cubicBezTo>
                  <a:lnTo>
                    <a:pt x="0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e9af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46155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110" y="110"/>
                  </a:moveTo>
                  <a:cubicBezTo>
                    <a:pt x="139" y="81"/>
                    <a:pt x="156" y="41"/>
                    <a:pt x="156" y="0"/>
                  </a:cubicBezTo>
                  <a:lnTo>
                    <a:pt x="0" y="0"/>
                  </a:lnTo>
                  <a:lnTo>
                    <a:pt x="110" y="110"/>
                  </a:lnTo>
                  <a:close/>
                </a:path>
              </a:pathLst>
            </a:custGeom>
            <a:solidFill>
              <a:srgbClr val="d392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4615560" y="3311280"/>
              <a:ext cx="1208160" cy="16192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0" h="155">
                  <a:moveTo>
                    <a:pt x="0" y="155"/>
                  </a:moveTo>
                  <a:cubicBezTo>
                    <a:pt x="41" y="155"/>
                    <a:pt x="81" y="139"/>
                    <a:pt x="110" y="110"/>
                  </a:cubicBez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bd75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3396240" y="3311280"/>
              <a:ext cx="1218960" cy="16192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1" h="155">
                  <a:moveTo>
                    <a:pt x="0" y="110"/>
                  </a:moveTo>
                  <a:cubicBezTo>
                    <a:pt x="29" y="139"/>
                    <a:pt x="69" y="155"/>
                    <a:pt x="111" y="155"/>
                  </a:cubicBezTo>
                  <a:lnTo>
                    <a:pt x="111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857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25"/>
            <p:cNvSpPr/>
            <p:nvPr/>
          </p:nvSpPr>
          <p:spPr>
            <a:xfrm>
              <a:off x="29019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0" y="0"/>
                  </a:moveTo>
                  <a:cubicBezTo>
                    <a:pt x="0" y="41"/>
                    <a:pt x="16" y="81"/>
                    <a:pt x="45" y="110"/>
                  </a:cubicBez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a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9019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45" y="0"/>
                  </a:moveTo>
                  <a:cubicBezTo>
                    <a:pt x="16" y="29"/>
                    <a:pt x="0" y="69"/>
                    <a:pt x="0" y="110"/>
                  </a:cubicBezTo>
                  <a:lnTo>
                    <a:pt x="156" y="11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c1d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3396240" y="1681200"/>
              <a:ext cx="1218960" cy="1630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1" h="156">
                  <a:moveTo>
                    <a:pt x="110" y="0"/>
                  </a:moveTo>
                  <a:cubicBezTo>
                    <a:pt x="69" y="0"/>
                    <a:pt x="29" y="16"/>
                    <a:pt x="0" y="45"/>
                  </a:cubicBezTo>
                  <a:lnTo>
                    <a:pt x="111" y="15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6600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Oval 28"/>
          <p:cNvSpPr/>
          <p:nvPr/>
        </p:nvSpPr>
        <p:spPr>
          <a:xfrm>
            <a:off x="4073400" y="2814480"/>
            <a:ext cx="1079640" cy="1008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621320" y="20271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LEGAL FRAME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062680" y="27795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PLANNING &amp; IMPLEMENT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159520" y="346860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TRAINING &amp;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548240" y="41641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REGISTRATION &amp; NOMIN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68600" y="41544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ELECTORAL CAMPA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21040" y="339876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OTING OPERATIONS &amp; ELECTION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2911320" y="272268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ERIFICATION OF RESUL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397320" y="20289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POST ELE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078440" y="302436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33"/>
                </a:solidFill>
                <a:latin typeface="Arial"/>
              </a:rPr>
              <a:t>THE ELECTORAL CYC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4617360" y="5382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NSTITU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4628160" y="766800"/>
            <a:ext cx="90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0"/>
          <p:cNvSpPr/>
          <p:nvPr/>
        </p:nvSpPr>
        <p:spPr>
          <a:xfrm flipH="1" rot="21597000">
            <a:off x="4614120" y="1057320"/>
            <a:ext cx="107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SYSTEM &amp; BOUNDAR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595840" y="9619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BOD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060960" y="219708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ION CALENDA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6276960" y="16146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UDGETING, FUNDING &amp;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348240" y="249228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RECRUITMENT &amp; PROCURE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357960" y="28386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OGISTICS &amp; SECUR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6348240" y="336240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PERATIONAL TRAINING  FOR ELECTION OFFICI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6161040" y="4068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IVIC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692600" y="5665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IES &amp; CANDIDAT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5340240" y="47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REGIST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4836960" y="5162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BSERVER ACCREDIT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820960" y="473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AMPAIGN COORDIN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3755880" y="4946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Y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38289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EDIA ACC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2192400" y="5162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REACHES &amp; PENALT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2173320" y="39862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523880" y="35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 COUN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812960" y="4371840"/>
            <a:ext cx="100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SPECIAL &amp; EXTERNAL 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18129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TABULATION OF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66860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MPLAINTS &amp; APPE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2243160" y="18111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FFICIAL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3397320" y="11304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AL REFOR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16240" y="9856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UDITS  &amp; EVALUATION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3181320" y="48096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INSTITUTIONAL STRENGTHENING &amp; PROFESSIONAL DEVELOP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3540240" y="1346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RCHIVING &amp; RESEARC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460600" y="1417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S’ LISTS UPDA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66"/>
          <p:cNvSpPr txBox="1"/>
          <p:nvPr/>
        </p:nvSpPr>
        <p:spPr>
          <a:xfrm>
            <a:off x="1362240" y="55440"/>
            <a:ext cx="6470640" cy="642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-VOTING (PREPARATIONS)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67"/>
          <p:cNvSpPr txBox="1"/>
          <p:nvPr/>
        </p:nvSpPr>
        <p:spPr>
          <a:xfrm rot="14991600">
            <a:off x="1200600" y="187560"/>
            <a:ext cx="6465960" cy="644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4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POST-VOTING (STRATEGIE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79" name="WordArt 69"/>
          <p:cNvSpPr txBox="1"/>
          <p:nvPr/>
        </p:nvSpPr>
        <p:spPr>
          <a:xfrm rot="10800000">
            <a:off x="1390680" y="48960"/>
            <a:ext cx="6470640" cy="642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VOTING PERIOD (OPERATION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5489640" y="1494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134040" y="43704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INFORM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3108240" y="5594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TextBox 71" descr=""/>
          <p:cNvPicPr/>
          <p:nvPr/>
        </p:nvPicPr>
        <p:blipFill>
          <a:blip r:embed="rId1"/>
          <a:stretch/>
        </p:blipFill>
        <p:spPr>
          <a:xfrm>
            <a:off x="165240" y="1262160"/>
            <a:ext cx="7491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lectoral Support anno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51280" y="2060640"/>
            <a:ext cx="518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iversifying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operation with all relevant national actors engaged in electoral process, including media and civil soci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ing electoral cycle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rehensiv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pproach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democracy: multi-actor and  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nsify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follow-up of EOM recommen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cd200"/>
                </a:solidFill>
                <a:latin typeface="Verdana"/>
              </a:rPr>
              <a:t>Role of EC UNDP Joint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medinal\Desktop\Tunisia_Protests.jpg"/>
          <p:cNvPicPr/>
          <p:nvPr/>
        </p:nvPicPr>
        <p:blipFill>
          <a:blip r:embed="rId1"/>
          <a:stretch/>
        </p:blipFill>
        <p:spPr>
          <a:xfrm>
            <a:off x="395280" y="2060640"/>
            <a:ext cx="3297240" cy="21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medinal\Desktop\Tunisian+voting.jpg"/>
          <p:cNvPicPr/>
          <p:nvPr/>
        </p:nvPicPr>
        <p:blipFill>
          <a:blip r:embed="rId2"/>
          <a:stretch/>
        </p:blipFill>
        <p:spPr>
          <a:xfrm>
            <a:off x="395280" y="450864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021200" y="6161040"/>
            <a:ext cx="11700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imulating or supporting demand side of Democracy (dialogue, networking, and EIDHR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ollow up EOMs + link with electoral assistance + domestic observ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BSS EIDHR support guidelines focused also o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opt democracy profiles and democracy action plans (pilot countri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emerging democracies move towards a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integrated, comprehensive and sustained approach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to democracy 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it one of the priority/focal areas in development cooperation programming (2014-2020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creased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lementarit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ween different instruments and different programmes – political dialogue,  incentives and suppor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732720" y="6165720"/>
            <a:ext cx="22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042920" y="3284640"/>
            <a:ext cx="7151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01600" y="1260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Democracy support: now and tomor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Co B1 Democracy Team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Can We Help You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olicy formul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actical guidanc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documentation of lessons learned and good practic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evelopment of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reference guides and practical tools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mission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 (identification and formulation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Training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and seminar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f5494"/>
                </a:solidFill>
                <a:latin typeface="Verdana"/>
              </a:rPr>
              <a:t>Development of a training packae on democracy suppor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sharing: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Capacity4dev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ight Arrow 3"/>
          <p:cNvSpPr/>
          <p:nvPr/>
        </p:nvSpPr>
        <p:spPr>
          <a:xfrm>
            <a:off x="4427640" y="422100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e Democracy Team of Devco B1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6:07:31Z</dcterms:created>
  <dc:creator>Alfonso Medinilla Aldana (DEVCO-EXT)</dc:creator>
  <dc:description/>
  <dc:language>en-US</dc:language>
  <cp:lastModifiedBy>CLAEYE Etienne (DEVCO)</cp:lastModifiedBy>
  <cp:lastPrinted>2013-02-26T14:54:05Z</cp:lastPrinted>
  <dcterms:modified xsi:type="dcterms:W3CDTF">2013-06-19T13:09:14Z</dcterms:modified>
  <cp:revision>58</cp:revision>
  <dc:subject/>
  <dc:title>EC support to Democracy: Policy, Practice and challenges</dc:title>
</cp:coreProperties>
</file>