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E3E9-E134-44E8-B0B0-47A0470B96D6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44892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205FA1E-5537-4AB2-9C3A-CDBE0E47FF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ge  EEAS and EC/DEVCO ro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lectoral cycle and its integration into broader democracy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 of election issue; use of 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aining and practical guidance tools for EMBs and electoral support community of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sts of elections &amp; Use of ICT in el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E324-14FE-4443-A9D1-B11FF1503DF0}" type="slidenum">
              <a:rPr b="0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76C5-3043-48D7-9DB2-0BDD1E96C6D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ED28-3C8C-4DD5-B178-AE4200407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mproving the coherence and effectiveness of EU support to democra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ists a set of values, norms and principles at the core of the Agenda  (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ountry specific, partnership and dialogue, EU coherence and coordination, international cooperation, visibility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Underlines the need of a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comprehensive and long-term approac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going beyond electoral democracy – need to work on political institutions (parliaments and partie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ilot countries have been identified to reinforce support and coh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DC2-7841-4BB1-889B-967CB3C7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B548-7E15-47B7-9E8B-D1545DEF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1EA-794D-4670-9741-D137A8EB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5B4-4D21-458E-AB1E-47BA71A1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7364-80E1-4475-9F4C-6F56F6C9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C4CD-9C6D-4E80-97BA-8E1911B9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6CBE-2B46-43E2-8C54-B5ABBA4B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3D7F-301D-4D01-A712-2EEA2165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E34B-EFEE-4BCE-ABB8-EFFE9D4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C405-2A33-4EEB-BA42-E84F61A4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E6AD-60C6-4619-9557-A041F0D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675-4642-4512-9098-E23FEA1F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7ACA-1C92-46D4-BA60-46965F7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DBBF-9C41-46A7-8B3B-950EFE4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891B-F823-43F5-9AB6-4732630B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BB8C-6C27-4100-86E1-F66F940E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105B-B36F-4335-872A-85C2E7EB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79A-9860-4693-B031-D4F900A0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2BB-3465-4199-855B-5556778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023-6972-4078-8FE3-743D82BF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F1B-ED43-4308-95C8-3A4DBE2E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E7C-091E-43FA-8F41-CFE73CF9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4D2-6BA6-4674-92CF-A69CE280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BBE-8951-49A8-A89C-A306FD20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BB3-D014-4CDE-B7C6-C96E860E9D45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19"/>
          <p:cNvSpPr/>
          <p:nvPr/>
        </p:nvSpPr>
        <p:spPr>
          <a:xfrm>
            <a:off x="4253040" y="123660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22" descr="Picture2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3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11280" cy="25272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7" name="Line 22"/>
          <p:cNvSpPr/>
          <p:nvPr/>
        </p:nvSpPr>
        <p:spPr>
          <a:xfrm>
            <a:off x="4253040" y="1233360"/>
            <a:ext cx="622080" cy="0"/>
          </a:xfrm>
          <a:prstGeom prst="line">
            <a:avLst/>
          </a:prstGeom>
          <a:ln w="38160">
            <a:solidFill>
              <a:srgbClr val="bf4b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26" descr="footer_white_transparent_en"/>
          <p:cNvPicPr/>
          <p:nvPr/>
        </p:nvPicPr>
        <p:blipFill>
          <a:blip r:embed="rId3"/>
          <a:stretch/>
        </p:blipFill>
        <p:spPr>
          <a:xfrm>
            <a:off x="4255920" y="6595920"/>
            <a:ext cx="648000" cy="268560"/>
          </a:xfrm>
          <a:prstGeom prst="rect">
            <a:avLst/>
          </a:prstGeom>
          <a:ln w="9360">
            <a:solidFill>
              <a:srgbClr val="bf4b36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2A0C-9FB3-49F6-BF99-F85970F47F1E}" type="slidenum">
              <a:rPr b="0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928520"/>
            <a:ext cx="8532720" cy="27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Implementation of Democracy Support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20 June 2013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5300640"/>
            <a:ext cx="8532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VCO B1 Democracy Tea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445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U Support to Democracy: a Policy Framework in Evolu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2060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2009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Council conclusions on Democracy Support 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 the EU's External Relations: EU Agenda for Democracy Support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f5494"/>
                </a:solidFill>
                <a:latin typeface="Verdana"/>
              </a:rPr>
              <a:t>2011</a:t>
            </a:r>
            <a:r>
              <a:rPr b="0" lang="fr-FR" sz="2000" spc="-1" strike="noStrike">
                <a:solidFill>
                  <a:srgbClr val="0f5494"/>
                </a:solidFill>
                <a:latin typeface="Verdana"/>
              </a:rPr>
              <a:t>: "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Increasing the impact of EU Development Policy: an </a:t>
            </a:r>
            <a:r>
              <a:rPr b="1" lang="en-US" sz="2000" spc="-1" strike="noStrike">
                <a:solidFill>
                  <a:srgbClr val="fcd200"/>
                </a:solidFill>
                <a:latin typeface="Verdana"/>
              </a:rPr>
              <a:t>Agenda for Change</a:t>
            </a: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" (COM 2011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Responding to recent challenges and developments such as the “Arab Spring” – Neighborhood policy adjust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Human rights, democracy and other key elements of good governance as one of the 2 priorities of EU cooperation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2012: </a:t>
            </a:r>
            <a:r>
              <a:rPr b="1" lang="en-US" sz="2000" spc="-1" strike="noStrike">
                <a:solidFill>
                  <a:srgbClr val="ffc000"/>
                </a:solidFill>
                <a:latin typeface="Verdana"/>
              </a:rPr>
              <a:t>EU Strategic Framework on Human Rights and Democracy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Action Plan, pilot countries, profil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Democracy support has never been higher on our agenda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  <a:ea typeface="Arial"/>
              </a:rPr>
              <a:t>Key Areas for Democracy Suppor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9636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Promoting </a:t>
            </a: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  <a:ea typeface="Arial"/>
              </a:rPr>
              <a:t>credible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electoral processes 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(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fair, free &amp; transparent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20000"/>
              </a:lnSpc>
              <a:buClr>
                <a:srgbClr val="fcd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fcd200"/>
                </a:solidFill>
                <a:latin typeface="Verdana"/>
              </a:rPr>
              <a:t>Civic Education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: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Human Rights and Democracy </a:t>
            </a:r>
            <a:r>
              <a:rPr b="0" i="1" lang="fr-BE" sz="1800" spc="-1" strike="noStrike">
                <a:solidFill>
                  <a:srgbClr val="0f5494"/>
                </a:solidFill>
                <a:latin typeface="Verdana"/>
              </a:rPr>
              <a:t>Masters, etc. building a culture of </a:t>
            </a: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democracy, educating voters and politician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95200" y="3141720"/>
            <a:ext cx="806472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freedom of expression and an independent, viable and profession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media: on- and off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  <a:ea typeface="Arial"/>
              </a:rPr>
              <a:t>parliaments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 and their ability to interact with civil society and the medi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upport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pluralism and political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rengthen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omestic accountability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1366560"/>
            <a:ext cx="5511960" cy="75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EU Electoral Suppor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2123640" y="2192400"/>
            <a:ext cx="8636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651640" y="2192400"/>
            <a:ext cx="1049040" cy="2603520"/>
          </a:xfrm>
          <a:prstGeom prst="line">
            <a:avLst/>
          </a:prstGeom>
          <a:ln w="7632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03440" y="4532400"/>
            <a:ext cx="3446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68360" y="4941720"/>
            <a:ext cx="3024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oral Ass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796000" y="4941720"/>
            <a:ext cx="295272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ahoma"/>
              </a:rPr>
              <a:t>Electio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619280" y="1341360"/>
            <a:ext cx="5616720" cy="85104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9" descr="reuters63838401806131637_big"/>
          <p:cNvPicPr/>
          <p:nvPr/>
        </p:nvPicPr>
        <p:blipFill>
          <a:blip r:embed="rId1"/>
          <a:stretch/>
        </p:blipFill>
        <p:spPr>
          <a:xfrm>
            <a:off x="3708360" y="2781360"/>
            <a:ext cx="1689120" cy="1828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324000" y="4149720"/>
            <a:ext cx="8020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oral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ssistanc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technical or material suppor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given to the electoral proc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Electio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observation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s the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political complement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election assist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spcAft>
                <a:spcPts val="1199"/>
              </a:spcAft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echnically speaking, they are different activities but essentially they should be considered and programmed in a complementary man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spcAft>
                <a:spcPts val="1199"/>
              </a:spcAft>
              <a:buClr>
                <a:srgbClr val="0f549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7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608 E">
                                      <p:cBhvr>
                                        <p:cTn id="8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reeform 2"/>
          <p:cNvSpPr/>
          <p:nvPr/>
        </p:nvSpPr>
        <p:spPr>
          <a:xfrm>
            <a:off x="2184480" y="49320"/>
            <a:ext cx="2425680" cy="325584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eaeaea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4610160" y="3305160"/>
            <a:ext cx="2405160" cy="323676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4610160" y="49320"/>
            <a:ext cx="2405160" cy="3255840"/>
          </a:xfrm>
          <a:custGeom>
            <a:avLst/>
            <a:gdLst>
              <a:gd name="textAreaLeft" fmla="*/ 0 w 2405160"/>
              <a:gd name="textAreaRight" fmla="*/ 2405520 w 2405160"/>
              <a:gd name="textAreaTop" fmla="*/ 0 h 3255840"/>
              <a:gd name="textAreaBottom" fmla="*/ 3256200 h 325584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610160" y="987480"/>
            <a:ext cx="3411360" cy="231768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4610160" y="3305160"/>
            <a:ext cx="3411360" cy="2298600"/>
          </a:xfrm>
          <a:custGeom>
            <a:avLst/>
            <a:gdLst>
              <a:gd name="textAreaLeft" fmla="*/ 0 w 3411360"/>
              <a:gd name="textAreaRight" fmla="*/ 3411720 w 341136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2184480" y="3305160"/>
            <a:ext cx="2425680" cy="323676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3236760"/>
              <a:gd name="textAreaBottom" fmla="*/ 3237120 h 323676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777777"/>
          </a:solidFill>
          <a:ln w="3672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201680" y="3297240"/>
            <a:ext cx="3411720" cy="2298600"/>
          </a:xfrm>
          <a:custGeom>
            <a:avLst/>
            <a:gdLst>
              <a:gd name="textAreaLeft" fmla="*/ 0 w 3411720"/>
              <a:gd name="textAreaRight" fmla="*/ 3412080 w 3411720"/>
              <a:gd name="textAreaTop" fmla="*/ 0 h 2298600"/>
              <a:gd name="textAreaBottom" fmla="*/ 2298960 h 229860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1200240" y="987480"/>
            <a:ext cx="3409920" cy="231768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317680"/>
              <a:gd name="textAreaBottom" fmla="*/ 2318040 h 23176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c0c0c0"/>
          </a:solidFill>
          <a:ln w="36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4603680" y="409680"/>
            <a:ext cx="2157480" cy="289872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0" h="156">
                <a:moveTo>
                  <a:pt x="110" y="45"/>
                </a:moveTo>
                <a:cubicBezTo>
                  <a:pt x="81" y="16"/>
                  <a:pt x="41" y="0"/>
                  <a:pt x="0" y="0"/>
                </a:cubicBezTo>
                <a:lnTo>
                  <a:pt x="0" y="156"/>
                </a:lnTo>
                <a:lnTo>
                  <a:pt x="110" y="45"/>
                </a:lnTo>
                <a:close/>
              </a:path>
            </a:pathLst>
          </a:custGeom>
          <a:solidFill>
            <a:srgbClr val="ffcc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460368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156" y="111"/>
                </a:moveTo>
                <a:cubicBezTo>
                  <a:pt x="156" y="69"/>
                  <a:pt x="139" y="29"/>
                  <a:pt x="110" y="0"/>
                </a:cubicBezTo>
                <a:lnTo>
                  <a:pt x="0" y="111"/>
                </a:lnTo>
                <a:lnTo>
                  <a:pt x="156" y="111"/>
                </a:lnTo>
                <a:close/>
              </a:path>
            </a:pathLst>
          </a:custGeom>
          <a:solidFill>
            <a:srgbClr val="e9af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4603680" y="330840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110" y="110"/>
                </a:moveTo>
                <a:cubicBezTo>
                  <a:pt x="139" y="81"/>
                  <a:pt x="156" y="41"/>
                  <a:pt x="156" y="0"/>
                </a:cubicBezTo>
                <a:lnTo>
                  <a:pt x="0" y="0"/>
                </a:lnTo>
                <a:lnTo>
                  <a:pt x="110" y="110"/>
                </a:lnTo>
                <a:close/>
              </a:path>
            </a:pathLst>
          </a:custGeom>
          <a:solidFill>
            <a:srgbClr val="d392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4603680" y="3308400"/>
            <a:ext cx="2157480" cy="2881440"/>
          </a:xfrm>
          <a:custGeom>
            <a:avLst/>
            <a:gdLst>
              <a:gd name="textAreaLeft" fmla="*/ 0 w 2157480"/>
              <a:gd name="textAreaRight" fmla="*/ 2157840 w 215748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0" h="155">
                <a:moveTo>
                  <a:pt x="0" y="155"/>
                </a:moveTo>
                <a:cubicBezTo>
                  <a:pt x="41" y="155"/>
                  <a:pt x="81" y="139"/>
                  <a:pt x="110" y="110"/>
                </a:cubicBez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bd75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2427120" y="3308400"/>
            <a:ext cx="2176560" cy="288144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81440"/>
              <a:gd name="textAreaBottom" fmla="*/ 2881800 h 2881440"/>
            </a:gdLst>
            <a:ahLst/>
            <a:rect l="textAreaLeft" t="textAreaTop" r="textAreaRight" b="textAreaBottom"/>
            <a:pathLst>
              <a:path w="111" h="155">
                <a:moveTo>
                  <a:pt x="0" y="110"/>
                </a:moveTo>
                <a:cubicBezTo>
                  <a:pt x="29" y="139"/>
                  <a:pt x="69" y="155"/>
                  <a:pt x="111" y="155"/>
                </a:cubicBezTo>
                <a:lnTo>
                  <a:pt x="111" y="0"/>
                </a:lnTo>
                <a:lnTo>
                  <a:pt x="0" y="110"/>
                </a:lnTo>
                <a:close/>
              </a:path>
            </a:pathLst>
          </a:custGeom>
          <a:solidFill>
            <a:srgbClr val="a857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1544760" y="3300480"/>
            <a:ext cx="3060720" cy="204624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46240"/>
              <a:gd name="textAreaBottom" fmla="*/ 2046600 h 2046240"/>
            </a:gdLst>
            <a:ahLst/>
            <a:rect l="textAreaLeft" t="textAreaTop" r="textAreaRight" b="textAreaBottom"/>
            <a:pathLst>
              <a:path w="156" h="110">
                <a:moveTo>
                  <a:pt x="0" y="0"/>
                </a:moveTo>
                <a:cubicBezTo>
                  <a:pt x="0" y="41"/>
                  <a:pt x="16" y="81"/>
                  <a:pt x="45" y="110"/>
                </a:cubicBezTo>
                <a:lnTo>
                  <a:pt x="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923a00">
              <a:alpha val="5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1542960" y="1244520"/>
            <a:ext cx="3060720" cy="20638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2063880"/>
              <a:gd name="textAreaBottom" fmla="*/ 2064240 h 2063880"/>
            </a:gdLst>
            <a:ahLst/>
            <a:rect l="textAreaLeft" t="textAreaTop" r="textAreaRight" b="textAreaBottom"/>
            <a:pathLst>
              <a:path w="156" h="111">
                <a:moveTo>
                  <a:pt x="45" y="0"/>
                </a:moveTo>
                <a:cubicBezTo>
                  <a:pt x="16" y="29"/>
                  <a:pt x="0" y="69"/>
                  <a:pt x="0" y="110"/>
                </a:cubicBezTo>
                <a:lnTo>
                  <a:pt x="156" y="111"/>
                </a:lnTo>
                <a:lnTo>
                  <a:pt x="45" y="0"/>
                </a:lnTo>
                <a:close/>
              </a:path>
            </a:pathLst>
          </a:custGeom>
          <a:solidFill>
            <a:srgbClr val="7c1d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2427120" y="409680"/>
            <a:ext cx="2176560" cy="289872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898720"/>
              <a:gd name="textAreaBottom" fmla="*/ 2898720 h 2898720"/>
            </a:gdLst>
            <a:ahLst/>
            <a:rect l="textAreaLeft" t="textAreaTop" r="textAreaRight" b="textAreaBottom"/>
            <a:pathLst>
              <a:path w="111" h="156">
                <a:moveTo>
                  <a:pt x="110" y="0"/>
                </a:moveTo>
                <a:cubicBezTo>
                  <a:pt x="69" y="0"/>
                  <a:pt x="29" y="16"/>
                  <a:pt x="0" y="45"/>
                </a:cubicBezTo>
                <a:lnTo>
                  <a:pt x="111" y="156"/>
                </a:lnTo>
                <a:lnTo>
                  <a:pt x="110" y="0"/>
                </a:lnTo>
                <a:close/>
              </a:path>
            </a:pathLst>
          </a:custGeom>
          <a:solidFill>
            <a:srgbClr val="660000">
              <a:alpha val="40000"/>
            </a:srgbClr>
          </a:solidFill>
          <a:ln w="367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3673440" y="2303640"/>
            <a:ext cx="1944720" cy="1873080"/>
          </a:xfrm>
          <a:prstGeom prst="ellipse">
            <a:avLst/>
          </a:prstGeom>
          <a:solidFill>
            <a:srgbClr val="ffffff"/>
          </a:solidFill>
          <a:ln w="367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Group 19"/>
          <p:cNvGrpSpPr/>
          <p:nvPr/>
        </p:nvGrpSpPr>
        <p:grpSpPr>
          <a:xfrm>
            <a:off x="2901960" y="1681200"/>
            <a:ext cx="3427200" cy="3249360"/>
            <a:chOff x="2901960" y="1681200"/>
            <a:chExt cx="3427200" cy="3249360"/>
          </a:xfrm>
        </p:grpSpPr>
        <p:sp>
          <p:nvSpPr>
            <p:cNvPr id="131" name="Freeform 20"/>
            <p:cNvSpPr/>
            <p:nvPr/>
          </p:nvSpPr>
          <p:spPr>
            <a:xfrm>
              <a:off x="4615560" y="1681200"/>
              <a:ext cx="1208160" cy="1630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0" h="156">
                  <a:moveTo>
                    <a:pt x="110" y="45"/>
                  </a:moveTo>
                  <a:cubicBezTo>
                    <a:pt x="81" y="16"/>
                    <a:pt x="41" y="0"/>
                    <a:pt x="0" y="0"/>
                  </a:cubicBezTo>
                  <a:lnTo>
                    <a:pt x="0" y="156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ffcc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46155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156" y="111"/>
                  </a:moveTo>
                  <a:cubicBezTo>
                    <a:pt x="156" y="69"/>
                    <a:pt x="139" y="29"/>
                    <a:pt x="110" y="0"/>
                  </a:cubicBezTo>
                  <a:lnTo>
                    <a:pt x="0" y="111"/>
                  </a:lnTo>
                  <a:lnTo>
                    <a:pt x="156" y="111"/>
                  </a:lnTo>
                  <a:close/>
                </a:path>
              </a:pathLst>
            </a:custGeom>
            <a:solidFill>
              <a:srgbClr val="e9af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46155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110" y="110"/>
                  </a:moveTo>
                  <a:cubicBezTo>
                    <a:pt x="139" y="81"/>
                    <a:pt x="156" y="41"/>
                    <a:pt x="156" y="0"/>
                  </a:cubicBezTo>
                  <a:lnTo>
                    <a:pt x="0" y="0"/>
                  </a:lnTo>
                  <a:lnTo>
                    <a:pt x="110" y="110"/>
                  </a:lnTo>
                  <a:close/>
                </a:path>
              </a:pathLst>
            </a:custGeom>
            <a:solidFill>
              <a:srgbClr val="d392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4615560" y="3311280"/>
              <a:ext cx="1208160" cy="16192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0" h="155">
                  <a:moveTo>
                    <a:pt x="0" y="155"/>
                  </a:moveTo>
                  <a:cubicBezTo>
                    <a:pt x="41" y="155"/>
                    <a:pt x="81" y="139"/>
                    <a:pt x="110" y="110"/>
                  </a:cubicBez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bd75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24"/>
            <p:cNvSpPr/>
            <p:nvPr/>
          </p:nvSpPr>
          <p:spPr>
            <a:xfrm>
              <a:off x="3396240" y="3311280"/>
              <a:ext cx="1218960" cy="16192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11" h="155">
                  <a:moveTo>
                    <a:pt x="0" y="110"/>
                  </a:moveTo>
                  <a:cubicBezTo>
                    <a:pt x="29" y="139"/>
                    <a:pt x="69" y="155"/>
                    <a:pt x="111" y="155"/>
                  </a:cubicBezTo>
                  <a:lnTo>
                    <a:pt x="111" y="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a857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25"/>
            <p:cNvSpPr/>
            <p:nvPr/>
          </p:nvSpPr>
          <p:spPr>
            <a:xfrm>
              <a:off x="2901960" y="3311280"/>
              <a:ext cx="1713600" cy="11494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49480"/>
                <a:gd name="textAreaBottom" fmla="*/ 1149840 h 1149480"/>
              </a:gdLst>
              <a:ahLst/>
              <a:rect l="textAreaLeft" t="textAreaTop" r="textAreaRight" b="textAreaBottom"/>
              <a:pathLst>
                <a:path w="156" h="110">
                  <a:moveTo>
                    <a:pt x="0" y="0"/>
                  </a:moveTo>
                  <a:cubicBezTo>
                    <a:pt x="0" y="41"/>
                    <a:pt x="16" y="81"/>
                    <a:pt x="45" y="110"/>
                  </a:cubicBez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3a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26"/>
            <p:cNvSpPr/>
            <p:nvPr/>
          </p:nvSpPr>
          <p:spPr>
            <a:xfrm>
              <a:off x="2901960" y="2151000"/>
              <a:ext cx="1713600" cy="1160280"/>
            </a:xfrm>
            <a:custGeom>
              <a:avLst/>
              <a:gdLst>
                <a:gd name="textAreaLeft" fmla="*/ 0 w 1713600"/>
                <a:gd name="textAreaRight" fmla="*/ 1713960 w 171360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156" h="111">
                  <a:moveTo>
                    <a:pt x="45" y="0"/>
                  </a:moveTo>
                  <a:cubicBezTo>
                    <a:pt x="16" y="29"/>
                    <a:pt x="0" y="69"/>
                    <a:pt x="0" y="110"/>
                  </a:cubicBezTo>
                  <a:lnTo>
                    <a:pt x="156" y="11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c1d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27"/>
            <p:cNvSpPr/>
            <p:nvPr/>
          </p:nvSpPr>
          <p:spPr>
            <a:xfrm>
              <a:off x="3396240" y="1681200"/>
              <a:ext cx="1218960" cy="163008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630080"/>
                <a:gd name="textAreaBottom" fmla="*/ 1630440 h 1630080"/>
              </a:gdLst>
              <a:ahLst/>
              <a:rect l="textAreaLeft" t="textAreaTop" r="textAreaRight" b="textAreaBottom"/>
              <a:pathLst>
                <a:path w="111" h="156">
                  <a:moveTo>
                    <a:pt x="110" y="0"/>
                  </a:moveTo>
                  <a:cubicBezTo>
                    <a:pt x="69" y="0"/>
                    <a:pt x="29" y="16"/>
                    <a:pt x="0" y="45"/>
                  </a:cubicBezTo>
                  <a:lnTo>
                    <a:pt x="111" y="156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660000"/>
            </a:solidFill>
            <a:ln w="367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Oval 28"/>
          <p:cNvSpPr/>
          <p:nvPr/>
        </p:nvSpPr>
        <p:spPr>
          <a:xfrm>
            <a:off x="4073400" y="2814480"/>
            <a:ext cx="1079640" cy="1008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4621320" y="202716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LEGAL FRAME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062680" y="277956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PLANNING &amp; IMPLEMENT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159520" y="346860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d4d4d"/>
                </a:solidFill>
                <a:latin typeface="Arial"/>
              </a:rPr>
              <a:t>TRAINING &amp;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4548240" y="416412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REGISTRATION &amp; NOMINATIO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3468600" y="415440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ELECTORAL CAMPAIG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2921040" y="3398760"/>
            <a:ext cx="115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OTING OPERATIONS &amp; ELECTION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2911320" y="2722680"/>
            <a:ext cx="115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VERIFICATION OF RESUL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3397320" y="20289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1d1"/>
                </a:solidFill>
                <a:latin typeface="Arial"/>
              </a:rPr>
              <a:t>POST ELE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4078440" y="3024360"/>
            <a:ext cx="108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33"/>
                </a:solidFill>
                <a:latin typeface="Arial"/>
              </a:rPr>
              <a:t>THE ELECTORAL CYC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4617360" y="538200"/>
            <a:ext cx="102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NSTITU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9"/>
          <p:cNvSpPr/>
          <p:nvPr/>
        </p:nvSpPr>
        <p:spPr>
          <a:xfrm>
            <a:off x="4628160" y="766800"/>
            <a:ext cx="90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0"/>
          <p:cNvSpPr/>
          <p:nvPr/>
        </p:nvSpPr>
        <p:spPr>
          <a:xfrm flipH="1" rot="21597000">
            <a:off x="4614120" y="1057320"/>
            <a:ext cx="107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SYSTEM &amp; BOUNDAR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595840" y="9619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ORAL BOD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6060960" y="219708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ELECTION CALENDA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6276960" y="1614600"/>
            <a:ext cx="122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UDGETING, FUNDING &amp;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348240" y="249228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RECRUITMENT &amp; PROCURE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357960" y="2838600"/>
            <a:ext cx="1440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OGISTICS &amp; SECUR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6348240" y="3362400"/>
            <a:ext cx="12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PERATIONAL TRAINING  FOR ELECTION OFFICI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6161040" y="4068720"/>
            <a:ext cx="136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IVIC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4692600" y="5665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IES &amp; CANDIDAT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5340240" y="472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REGIST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4836960" y="51624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BSERVER ACCREDIT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2820960" y="473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AMPAIGN COORDIN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52"/>
          <p:cNvSpPr/>
          <p:nvPr/>
        </p:nvSpPr>
        <p:spPr>
          <a:xfrm>
            <a:off x="3755880" y="4946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RTY FINANC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3"/>
          <p:cNvSpPr/>
          <p:nvPr/>
        </p:nvSpPr>
        <p:spPr>
          <a:xfrm>
            <a:off x="3828960" y="537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MEDIA ACCES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54"/>
          <p:cNvSpPr/>
          <p:nvPr/>
        </p:nvSpPr>
        <p:spPr>
          <a:xfrm>
            <a:off x="2192400" y="5162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BREACHES &amp; PENALTI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5"/>
          <p:cNvSpPr/>
          <p:nvPr/>
        </p:nvSpPr>
        <p:spPr>
          <a:xfrm>
            <a:off x="2173320" y="3986280"/>
            <a:ext cx="649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1523880" y="35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 COUN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1812960" y="4371840"/>
            <a:ext cx="100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SPECIAL &amp; EXTERNAL VOTING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1812960" y="278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TABULATION OF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9"/>
          <p:cNvSpPr/>
          <p:nvPr/>
        </p:nvSpPr>
        <p:spPr>
          <a:xfrm>
            <a:off x="166860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MPLAINTS &amp; APPEA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0"/>
          <p:cNvSpPr/>
          <p:nvPr/>
        </p:nvSpPr>
        <p:spPr>
          <a:xfrm>
            <a:off x="2243160" y="18111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OFFICIAL RESUL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3397320" y="113040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LEGAL REFOR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16240" y="98568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UDITS  &amp; EVALUATION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3181320" y="480960"/>
            <a:ext cx="1440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INSTITUTIONAL STRENGTHENING &amp; PROFESSIONAL DEVELOPMEN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3540240" y="13460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ARCHIVING &amp; RESEARC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65"/>
          <p:cNvSpPr/>
          <p:nvPr/>
        </p:nvSpPr>
        <p:spPr>
          <a:xfrm>
            <a:off x="2460600" y="1417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S’ LISTS UPDAT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66"/>
          <p:cNvSpPr txBox="1"/>
          <p:nvPr/>
        </p:nvSpPr>
        <p:spPr>
          <a:xfrm>
            <a:off x="1362240" y="55440"/>
            <a:ext cx="6470640" cy="642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RE-VOTING (PREPARATIONS)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78" name="WordArt 67"/>
          <p:cNvSpPr txBox="1"/>
          <p:nvPr/>
        </p:nvSpPr>
        <p:spPr>
          <a:xfrm rot="14991600">
            <a:off x="1200600" y="187560"/>
            <a:ext cx="6465960" cy="644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4000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POST-VOTING (STRATEGIE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79" name="WordArt 69"/>
          <p:cNvSpPr txBox="1"/>
          <p:nvPr/>
        </p:nvSpPr>
        <p:spPr>
          <a:xfrm rot="10800000">
            <a:off x="1390680" y="48960"/>
            <a:ext cx="6470640" cy="642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Circle">
              <a:avLst>
                <a:gd name="adj" fmla="val 200857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777777"/>
                  </a:solidFill>
                  <a:miter/>
                </a:ln>
                <a:solidFill>
                  <a:srgbClr val="777777"/>
                </a:solidFill>
                <a:latin typeface="Arial"/>
              </a:rPr>
              <a:t>VOTING PERIOD (OPERATIONS)</a:t>
            </a:r>
            <a:endParaRPr b="0" lang="en-US" sz="1200" spc="1" strike="noStrike">
              <a:ln w="9360">
                <a:solidFill>
                  <a:srgbClr val="777777"/>
                </a:solidFill>
                <a:miter/>
              </a:ln>
              <a:solidFill>
                <a:srgbClr val="777777"/>
              </a:solidFill>
              <a:latin typeface="Arial"/>
              <a:ea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5489640" y="1494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71"/>
          <p:cNvSpPr/>
          <p:nvPr/>
        </p:nvSpPr>
        <p:spPr>
          <a:xfrm>
            <a:off x="6134040" y="43704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VOTER INFORM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2"/>
          <p:cNvSpPr/>
          <p:nvPr/>
        </p:nvSpPr>
        <p:spPr>
          <a:xfrm>
            <a:off x="3108240" y="5594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CODES OF CONDUC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TextBox 71" descr=""/>
          <p:cNvPicPr/>
          <p:nvPr/>
        </p:nvPicPr>
        <p:blipFill>
          <a:blip r:embed="rId1"/>
          <a:stretch/>
        </p:blipFill>
        <p:spPr>
          <a:xfrm>
            <a:off x="165240" y="1262160"/>
            <a:ext cx="74916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8108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f5494"/>
                </a:solidFill>
                <a:latin typeface="Verdana"/>
              </a:rPr>
              <a:t>Electoral Support anno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3851280" y="2060640"/>
            <a:ext cx="518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Diversifying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ooperation with all relevant national actors engaged in electoral process, including media and civil socie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mplementing electoral cycle approa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rehensive</a:t>
            </a:r>
            <a:r>
              <a:rPr b="0" lang="en-GB" sz="1800" spc="-1" strike="noStrike">
                <a:solidFill>
                  <a:srgbClr val="fcd200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approach</a:t>
            </a:r>
            <a:r>
              <a:rPr b="0" lang="en-GB" sz="18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to democracy: multi-actor and  long-te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tensifying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follow-up of EOM recommend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cd200"/>
                </a:solidFill>
                <a:latin typeface="Verdana"/>
              </a:rPr>
              <a:t>Role of EC UNDP Joint Task For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4000"/>
              </a:lnSpc>
              <a:spcAft>
                <a:spcPts val="799"/>
              </a:spcAft>
              <a:buClr>
                <a:srgbClr val="fcd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2" descr="C:\Users\medinal\Desktop\Tunisia_Protests.jpg"/>
          <p:cNvPicPr/>
          <p:nvPr/>
        </p:nvPicPr>
        <p:blipFill>
          <a:blip r:embed="rId1"/>
          <a:stretch/>
        </p:blipFill>
        <p:spPr>
          <a:xfrm>
            <a:off x="395280" y="2060640"/>
            <a:ext cx="3297240" cy="217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medinal\Desktop\Tunisian+voting.jpg"/>
          <p:cNvPicPr/>
          <p:nvPr/>
        </p:nvPicPr>
        <p:blipFill>
          <a:blip r:embed="rId2"/>
          <a:stretch/>
        </p:blipFill>
        <p:spPr>
          <a:xfrm>
            <a:off x="395280" y="4508640"/>
            <a:ext cx="327672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021200" y="6161040"/>
            <a:ext cx="1170000" cy="7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Stimulating or supporting demand side of Democracy (dialogue, networking, and EIDHR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ollow up EOMs + link with electoral assistance + domestic observat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CBSS EIDHR support guidelines focused also o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dopt democracy profiles and democracy action plans (pilot countries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emerging democracies move towards an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integrated, comprehensive and sustained approach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to democracy 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Make it one of the priority/focal areas in development cooperation programming (2014-2020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creased </a:t>
            </a:r>
            <a:r>
              <a:rPr b="1" lang="en-GB" sz="1800" spc="-1" strike="noStrike">
                <a:solidFill>
                  <a:srgbClr val="fcd200"/>
                </a:solidFill>
                <a:latin typeface="Verdana"/>
              </a:rPr>
              <a:t>complementarity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between different instruments and different programmes – political dialogue,  incentives and support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6732720" y="6165720"/>
            <a:ext cx="2232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042920" y="3284640"/>
            <a:ext cx="71517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201600" y="1260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EU Democracy support: now and tomor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DevCo B1 Democracy Team: </a:t>
            </a:r>
            <a:br>
              <a:rPr sz="2400"/>
            </a:b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How Can We Help You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21337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olicy formulation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in democracy support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Aft>
                <a:spcPts val="11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ractical guidance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and documentation of lessons learned and good practic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Development of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reference guides and practical tools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</a:t>
            </a: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 Studie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Support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mission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 (identification and formulation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ffc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Trainings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and seminars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f5494"/>
                </a:solidFill>
                <a:latin typeface="Verdana"/>
              </a:rPr>
              <a:t>Development of a training packae on democracy support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Knowledge sharing: </a:t>
            </a:r>
            <a:r>
              <a:rPr b="1" lang="en-GB" sz="1600" spc="-1" strike="noStrike">
                <a:solidFill>
                  <a:srgbClr val="ffc000"/>
                </a:solidFill>
                <a:latin typeface="Verdana"/>
              </a:rPr>
              <a:t>Capacity4dev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ight Arrow 3"/>
          <p:cNvSpPr/>
          <p:nvPr/>
        </p:nvSpPr>
        <p:spPr>
          <a:xfrm>
            <a:off x="4427640" y="422100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ank you for your attention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0f5494"/>
                </a:solidFill>
                <a:latin typeface="Verdana"/>
              </a:rPr>
              <a:t>The Democracy Team of Devco B1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16:07:31Z</dcterms:created>
  <dc:creator>Alfonso Medinilla Aldana (DEVCO-EXT)</dc:creator>
  <dc:description/>
  <dc:language>en-US</dc:language>
  <cp:lastModifiedBy>CLAEYE Etienne (DEVCO)</cp:lastModifiedBy>
  <cp:lastPrinted>2013-02-26T14:54:05Z</cp:lastPrinted>
  <dcterms:modified xsi:type="dcterms:W3CDTF">2013-06-19T13:09:14Z</dcterms:modified>
  <cp:revision>58</cp:revision>
  <dc:subject/>
  <dc:title>EC support to Democracy: Policy, Practice and challenges</dc:title>
</cp:coreProperties>
</file>