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834-C8CB-41C2-82BA-D4175A6B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2B7-C406-4D75-AE51-0F75C906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A4F-2616-4A04-81AC-142D193D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110-D43C-4829-8B57-BAD2FCED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0A13-C4C1-458A-9AD7-4AF2E06C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C4C2-34F5-474B-B647-621D4295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EF7C-48AA-4C2B-AD51-7A9E26DF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50D6-D0E6-49E5-B2C0-7DCE208E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63A1-69BD-4BE8-BFFF-7FD70BA4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ED92-DE22-4442-A740-0F253E17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1455-924A-443B-A62E-AD56A5F1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F6B-5CF9-4DD1-BD60-0ED6DE38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8E20-8766-472B-808D-94D6AE0B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CB89-7FFF-49AB-A42B-BFE7DBD2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17B3-B92B-4385-B8D6-D081D6B6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F678-B772-433C-BE6B-627F569B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63B5-4881-4166-BC17-B2C6D3B4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D8C-EE95-4686-A111-CADFDCE6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AAE-BD32-4770-B6EE-170363E0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954-C457-40AD-9D6D-B92208B9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185-72E6-4EDC-85C3-F71D8E19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2E0-D9A3-4C02-AA3F-34ACA6D7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428-7195-4E2F-B193-3A87D1C9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DA0-B45E-43C9-98F9-E116DCFF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B2EC-9929-474E-9693-479F450060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436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1349280"/>
            <a:ext cx="9144000" cy="55087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749760" y="378000"/>
            <a:ext cx="1942920" cy="134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162320" y="6642000"/>
            <a:ext cx="8398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3A0C-6F69-44D3-A017-A0FB6B6FA7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9640" y="1988640"/>
            <a:ext cx="5327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fr-BE" sz="2800" spc="-1" strike="noStrike">
                <a:solidFill>
                  <a:srgbClr val="ffffff"/>
                </a:solidFill>
                <a:latin typeface="Arial"/>
              </a:rPr>
              <a:t>Domestic Accountability 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40575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elia Wil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a Dah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CO – 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rizontal accountability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E7F3-CEBD-461F-8267-5F7ACA953F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42960" y="1917720"/>
            <a:ext cx="77151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liament at the centre of 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82E8-7B08-49E0-B6A2-F36A922A34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guys-sleeping-in-parliament"/>
          <p:cNvPicPr/>
          <p:nvPr/>
        </p:nvPicPr>
        <p:blipFill>
          <a:blip r:embed="rId1"/>
          <a:stretch/>
        </p:blipFill>
        <p:spPr>
          <a:xfrm>
            <a:off x="1571760" y="2428920"/>
            <a:ext cx="5786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porting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EEA4-5193-4EBF-9843-9C2FBE21B1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SunEditorialCartoon"/>
          <p:cNvPicPr/>
          <p:nvPr/>
        </p:nvPicPr>
        <p:blipFill>
          <a:blip r:embed="rId1"/>
          <a:stretch/>
        </p:blipFill>
        <p:spPr>
          <a:xfrm>
            <a:off x="3000240" y="2071800"/>
            <a:ext cx="3125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... investiga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D8F8-7636-4DFB-8E39-D50AECC7C8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audit_cartoon"/>
          <p:cNvPicPr/>
          <p:nvPr/>
        </p:nvPicPr>
        <p:blipFill>
          <a:blip r:embed="rId1"/>
          <a:stretch/>
        </p:blipFill>
        <p:spPr>
          <a:xfrm>
            <a:off x="857160" y="2071800"/>
            <a:ext cx="73580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atchdog CSOs -  vital oversight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1D29-F97D-43B2-AB0E-0019879038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watchdog"/>
          <p:cNvPicPr/>
          <p:nvPr/>
        </p:nvPicPr>
        <p:blipFill>
          <a:blip r:embed="rId1"/>
          <a:stretch/>
        </p:blipFill>
        <p:spPr>
          <a:xfrm>
            <a:off x="2171880" y="2476440"/>
            <a:ext cx="45608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ommendations – questions -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C2F1-BF75-4393-BF88-9EC99932E6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http://www.focuspointeglobal.com/Portals/136660/images/encouraging-focus-group-discussion-resized-600.jpg"/>
          <p:cNvPicPr/>
          <p:nvPr/>
        </p:nvPicPr>
        <p:blipFill>
          <a:blip r:embed="rId1"/>
          <a:stretch/>
        </p:blipFill>
        <p:spPr>
          <a:xfrm>
            <a:off x="2714760" y="2286000"/>
            <a:ext cx="35719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42E-F3B3-437E-8515-EFE55E8688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estic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2457360"/>
          <a:ext cx="8064720" cy="3600720"/>
        </p:xfrm>
        <a:graphic>
          <a:graphicData uri="http://schemas.openxmlformats.org/drawingml/2006/table">
            <a:tbl>
              <a:tblPr/>
              <a:tblGrid>
                <a:gridCol w="765360"/>
                <a:gridCol w="1754280"/>
                <a:gridCol w="936360"/>
                <a:gridCol w="3095640"/>
                <a:gridCol w="712800"/>
                <a:gridCol w="800280"/>
              </a:tblGrid>
              <a:tr h="351000"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(supp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discri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(dema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AutoShape 9"/>
          <p:cNvSpPr/>
          <p:nvPr/>
        </p:nvSpPr>
        <p:spPr>
          <a:xfrm>
            <a:off x="3132000" y="3041640"/>
            <a:ext cx="682920" cy="2444760"/>
          </a:xfrm>
          <a:prstGeom prst="downArrow">
            <a:avLst>
              <a:gd name="adj1" fmla="val 50000"/>
              <a:gd name="adj2" fmla="val 47466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7164360" y="2889360"/>
            <a:ext cx="576360" cy="2663640"/>
          </a:xfrm>
          <a:prstGeom prst="upArrow">
            <a:avLst>
              <a:gd name="adj1" fmla="val 50000"/>
              <a:gd name="adj2" fmla="val 49702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2114640" y="314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13" descr=""/>
          <p:cNvPicPr/>
          <p:nvPr/>
        </p:nvPicPr>
        <p:blipFill>
          <a:blip r:embed="rId1"/>
          <a:stretch/>
        </p:blipFill>
        <p:spPr>
          <a:xfrm>
            <a:off x="622440" y="2901960"/>
            <a:ext cx="809640" cy="272412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14" descr=""/>
          <p:cNvPicPr/>
          <p:nvPr/>
        </p:nvPicPr>
        <p:blipFill>
          <a:blip r:embed="rId2"/>
          <a:stretch/>
        </p:blipFill>
        <p:spPr>
          <a:xfrm>
            <a:off x="7729560" y="2792520"/>
            <a:ext cx="811080" cy="2882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4034160" y="28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xecu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191120" y="341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.A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5099040" y="35449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5931360" y="3900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ic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4091040" y="40989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2"/>
          <p:cNvSpPr/>
          <p:nvPr/>
        </p:nvSpPr>
        <p:spPr>
          <a:xfrm>
            <a:off x="4142880" y="5194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3"/>
          <p:cNvSpPr/>
          <p:nvPr/>
        </p:nvSpPr>
        <p:spPr>
          <a:xfrm>
            <a:off x="5450400" y="51944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4200120" y="48243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5348520" y="445284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6"/>
          <p:cNvSpPr/>
          <p:nvPr/>
        </p:nvSpPr>
        <p:spPr>
          <a:xfrm>
            <a:off x="5398920" y="31892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cal counc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omestic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6" descr=""/>
          <p:cNvPicPr/>
          <p:nvPr/>
        </p:nvPicPr>
        <p:blipFill>
          <a:blip r:embed="rId1"/>
          <a:stretch/>
        </p:blipFill>
        <p:spPr>
          <a:xfrm>
            <a:off x="457200" y="2389320"/>
            <a:ext cx="8229600" cy="373032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E1EC-CD36-434F-8DF7-A24297D814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particip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ontent Placeholder 5" descr=""/>
          <p:cNvPicPr/>
          <p:nvPr/>
        </p:nvPicPr>
        <p:blipFill>
          <a:blip r:embed="rId1"/>
          <a:stretch/>
        </p:blipFill>
        <p:spPr>
          <a:xfrm>
            <a:off x="1523880" y="249084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167F-264C-470D-A108-33FE6B874F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5" descr=""/>
          <p:cNvPicPr/>
          <p:nvPr/>
        </p:nvPicPr>
        <p:blipFill>
          <a:blip r:embed="rId1"/>
          <a:stretch/>
        </p:blipFill>
        <p:spPr>
          <a:xfrm>
            <a:off x="917640" y="2349360"/>
            <a:ext cx="7183440" cy="3646800"/>
          </a:xfrm>
          <a:prstGeom prst="rect">
            <a:avLst/>
          </a:prstGeom>
          <a:ln w="0">
            <a:noFill/>
          </a:ln>
        </p:spPr>
      </p:pic>
      <p:sp>
        <p:nvSpPr>
          <p:cNvPr id="12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8BDE-B910-4A99-8560-031529F513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media landscape, new (old) challeng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ntent Placeholder 5" descr=""/>
          <p:cNvPicPr/>
          <p:nvPr/>
        </p:nvPicPr>
        <p:blipFill>
          <a:blip r:embed="rId1"/>
          <a:stretch/>
        </p:blipFill>
        <p:spPr>
          <a:xfrm>
            <a:off x="1332000" y="1901880"/>
            <a:ext cx="6119640" cy="434952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7E7B-7A03-4CE9-970B-5307316851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ublic sp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5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9514-0948-4983-BECC-737583B843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ld challenges new opportun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ontent Placeholder 5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16232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9330-EEEB-4F84-9BC0-5F94F50810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versight – an essential ingredient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DEC8-5192-414C-9963-4D906B00BC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budget-cartoon-e1361166496254"/>
          <p:cNvPicPr/>
          <p:nvPr/>
        </p:nvPicPr>
        <p:blipFill>
          <a:blip r:embed="rId1"/>
          <a:stretch/>
        </p:blipFill>
        <p:spPr>
          <a:xfrm>
            <a:off x="1785960" y="1928880"/>
            <a:ext cx="47149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DURA George (DEVCO)</cp:lastModifiedBy>
  <cp:lastPrinted>2013-06-18T09:10:56Z</cp:lastPrinted>
  <dcterms:modified xsi:type="dcterms:W3CDTF">2013-06-19T13:26:46Z</dcterms:modified>
  <cp:revision>134</cp:revision>
  <dc:subject/>
  <dc:title>Slide 1</dc:title>
</cp:coreProperties>
</file>