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89B-59E1-4FE2-9EFD-99CD1ADE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805-2AE4-4C9C-8647-133F8B33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66D-2A24-4C49-ADF8-A02139DD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07A-EBEA-4B80-A9A9-12B8F3F8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5992-E162-43B5-8B91-F583831F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CAE2-A803-4077-8BB6-80EA1354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FECF-3AFA-454C-A829-1D3AC145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BDDA-60F6-48B6-9E1C-EC6FD97E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F45B-62C4-4B68-9B8F-07D581A1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373C-C4FB-4B41-ACE9-41C20326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888D-FB47-4149-A8A9-17ECCF88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65D-25A8-4DE7-8F5F-230EA5D3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00AB-44F7-4D3F-ADED-4646C1B7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E150-F5AF-40BF-9B56-EA561B82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B918-D016-4F82-93F8-67DC82B0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44E1-5371-4A2B-B5B5-63AE8B0E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2577-3648-4F62-A74A-E9F02CFF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115-9A23-4117-86EB-098EF61E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16C-9CA9-49C9-BB29-3E60FDA7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583-33B7-4F52-8815-227171E1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C17-D2D3-426D-B1B4-22FD6690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45B-F7E4-45B8-9B55-6C2C7640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6BE6-C99F-408F-8B48-3857E538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4E4-6DA2-4BB9-A1F5-333DFB3A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E68B-C863-48B5-9D91-8B3A1C776D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436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1349280"/>
            <a:ext cx="9144000" cy="55087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749760" y="378000"/>
            <a:ext cx="1942920" cy="134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162320" y="6642000"/>
            <a:ext cx="8398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F568-95B9-4CF9-87FF-FE802E6E54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9640" y="1988640"/>
            <a:ext cx="5327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fr-BE" sz="2800" spc="-1" strike="noStrike">
                <a:solidFill>
                  <a:srgbClr val="ffffff"/>
                </a:solidFill>
                <a:latin typeface="Arial"/>
              </a:rPr>
              <a:t>Domestic Accountability 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40575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elia Wil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a Dahl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CO – 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rizontal accountability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FCC6-299D-455F-9235-E932C78AC3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42960" y="1917720"/>
            <a:ext cx="771516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liament at the centre of 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7EE9-2B28-48D1-A794-6C07DEA127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guys-sleeping-in-parliament"/>
          <p:cNvPicPr/>
          <p:nvPr/>
        </p:nvPicPr>
        <p:blipFill>
          <a:blip r:embed="rId1"/>
          <a:stretch/>
        </p:blipFill>
        <p:spPr>
          <a:xfrm>
            <a:off x="1571760" y="2428920"/>
            <a:ext cx="5786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porting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A03D-B0C7-4A7C-ABBE-D0F53C6D0F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SunEditorialCartoon"/>
          <p:cNvPicPr/>
          <p:nvPr/>
        </p:nvPicPr>
        <p:blipFill>
          <a:blip r:embed="rId1"/>
          <a:stretch/>
        </p:blipFill>
        <p:spPr>
          <a:xfrm>
            <a:off x="3000240" y="2071800"/>
            <a:ext cx="3125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... investigat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798C-1507-4AAA-ACFB-1445D96FD7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audit_cartoon"/>
          <p:cNvPicPr/>
          <p:nvPr/>
        </p:nvPicPr>
        <p:blipFill>
          <a:blip r:embed="rId1"/>
          <a:stretch/>
        </p:blipFill>
        <p:spPr>
          <a:xfrm>
            <a:off x="857160" y="2071800"/>
            <a:ext cx="735804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atchdog CSOs -  vital oversight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26BE-1698-4DC3-B9CA-7EC37F22EB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watchdog"/>
          <p:cNvPicPr/>
          <p:nvPr/>
        </p:nvPicPr>
        <p:blipFill>
          <a:blip r:embed="rId1"/>
          <a:stretch/>
        </p:blipFill>
        <p:spPr>
          <a:xfrm>
            <a:off x="2171880" y="2476440"/>
            <a:ext cx="45608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ommendations – questions -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4CB4-A30B-47A6-9175-B3DC2C0336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http://www.focuspointeglobal.com/Portals/136660/images/encouraging-focus-group-discussion-resized-600.jpg"/>
          <p:cNvPicPr/>
          <p:nvPr/>
        </p:nvPicPr>
        <p:blipFill>
          <a:blip r:embed="rId1"/>
          <a:stretch/>
        </p:blipFill>
        <p:spPr>
          <a:xfrm>
            <a:off x="2714760" y="2286000"/>
            <a:ext cx="35719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4258-5E8E-41B1-8428-83126ED0A7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estic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9640" y="2457360"/>
          <a:ext cx="8064720" cy="3600720"/>
        </p:xfrm>
        <a:graphic>
          <a:graphicData uri="http://schemas.openxmlformats.org/drawingml/2006/table">
            <a:tbl>
              <a:tblPr/>
              <a:tblGrid>
                <a:gridCol w="765360"/>
                <a:gridCol w="1754280"/>
                <a:gridCol w="936360"/>
                <a:gridCol w="3095640"/>
                <a:gridCol w="712800"/>
                <a:gridCol w="800280"/>
              </a:tblGrid>
              <a:tr h="351000"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(supp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2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discri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(dema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AutoShape 9"/>
          <p:cNvSpPr/>
          <p:nvPr/>
        </p:nvSpPr>
        <p:spPr>
          <a:xfrm>
            <a:off x="3132000" y="3041640"/>
            <a:ext cx="682920" cy="2444760"/>
          </a:xfrm>
          <a:prstGeom prst="downArrow">
            <a:avLst>
              <a:gd name="adj1" fmla="val 50000"/>
              <a:gd name="adj2" fmla="val 47466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7164360" y="2889360"/>
            <a:ext cx="576360" cy="2663640"/>
          </a:xfrm>
          <a:prstGeom prst="upArrow">
            <a:avLst>
              <a:gd name="adj1" fmla="val 50000"/>
              <a:gd name="adj2" fmla="val 49702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2114640" y="314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13" descr=""/>
          <p:cNvPicPr/>
          <p:nvPr/>
        </p:nvPicPr>
        <p:blipFill>
          <a:blip r:embed="rId1"/>
          <a:stretch/>
        </p:blipFill>
        <p:spPr>
          <a:xfrm>
            <a:off x="622440" y="2901960"/>
            <a:ext cx="809640" cy="272412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14" descr=""/>
          <p:cNvPicPr/>
          <p:nvPr/>
        </p:nvPicPr>
        <p:blipFill>
          <a:blip r:embed="rId2"/>
          <a:stretch/>
        </p:blipFill>
        <p:spPr>
          <a:xfrm>
            <a:off x="7729560" y="2792520"/>
            <a:ext cx="811080" cy="2882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6"/>
          <p:cNvSpPr/>
          <p:nvPr/>
        </p:nvSpPr>
        <p:spPr>
          <a:xfrm>
            <a:off x="4034160" y="28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xecu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4191120" y="341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.A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5099040" y="35449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0"/>
          <p:cNvSpPr/>
          <p:nvPr/>
        </p:nvSpPr>
        <p:spPr>
          <a:xfrm>
            <a:off x="5931360" y="3900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dic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1"/>
          <p:cNvSpPr/>
          <p:nvPr/>
        </p:nvSpPr>
        <p:spPr>
          <a:xfrm>
            <a:off x="4091040" y="40989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2"/>
          <p:cNvSpPr/>
          <p:nvPr/>
        </p:nvSpPr>
        <p:spPr>
          <a:xfrm>
            <a:off x="4142880" y="5194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3"/>
          <p:cNvSpPr/>
          <p:nvPr/>
        </p:nvSpPr>
        <p:spPr>
          <a:xfrm>
            <a:off x="5450400" y="51944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4200120" y="48243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5348520" y="445284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6"/>
          <p:cNvSpPr/>
          <p:nvPr/>
        </p:nvSpPr>
        <p:spPr>
          <a:xfrm>
            <a:off x="5398920" y="31892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cal counc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omestic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6" descr=""/>
          <p:cNvPicPr/>
          <p:nvPr/>
        </p:nvPicPr>
        <p:blipFill>
          <a:blip r:embed="rId1"/>
          <a:stretch/>
        </p:blipFill>
        <p:spPr>
          <a:xfrm>
            <a:off x="457200" y="2389320"/>
            <a:ext cx="8229600" cy="373032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6C1A-2A02-4603-BBFE-D4398D9BE8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particip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Content Placeholder 5" descr=""/>
          <p:cNvPicPr/>
          <p:nvPr/>
        </p:nvPicPr>
        <p:blipFill>
          <a:blip r:embed="rId1"/>
          <a:stretch/>
        </p:blipFill>
        <p:spPr>
          <a:xfrm>
            <a:off x="1523880" y="249084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0129-74EA-4798-BAB3-14CD56785D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5" descr=""/>
          <p:cNvPicPr/>
          <p:nvPr/>
        </p:nvPicPr>
        <p:blipFill>
          <a:blip r:embed="rId1"/>
          <a:stretch/>
        </p:blipFill>
        <p:spPr>
          <a:xfrm>
            <a:off x="917640" y="2349360"/>
            <a:ext cx="7183440" cy="3646800"/>
          </a:xfrm>
          <a:prstGeom prst="rect">
            <a:avLst/>
          </a:prstGeom>
          <a:ln w="0">
            <a:noFill/>
          </a:ln>
        </p:spPr>
      </p:pic>
      <p:sp>
        <p:nvSpPr>
          <p:cNvPr id="12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25E3-8691-41D4-BF53-E5ED5C6847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media landscape, new (old) challeng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Content Placeholder 5" descr=""/>
          <p:cNvPicPr/>
          <p:nvPr/>
        </p:nvPicPr>
        <p:blipFill>
          <a:blip r:embed="rId1"/>
          <a:stretch/>
        </p:blipFill>
        <p:spPr>
          <a:xfrm>
            <a:off x="1332000" y="1901880"/>
            <a:ext cx="6119640" cy="434952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C85C-3F44-4485-9C08-4A84423637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ublic sp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ontent Placeholder 5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804D-31F9-4F41-87DC-C3BC976997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ld challenges new opportun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Content Placeholder 5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162320"/>
          </a:xfrm>
          <a:prstGeom prst="rect">
            <a:avLst/>
          </a:prstGeom>
          <a:ln w="0">
            <a:noFill/>
          </a:ln>
        </p:spPr>
      </p:pic>
      <p:sp>
        <p:nvSpPr>
          <p:cNvPr id="13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0D52-00C1-4C74-8E95-602667AF72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versight – an essential ingredient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8FB0-2DF3-4367-B552-57759E66F7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budget-cartoon-e1361166496254"/>
          <p:cNvPicPr/>
          <p:nvPr/>
        </p:nvPicPr>
        <p:blipFill>
          <a:blip r:embed="rId1"/>
          <a:stretch/>
        </p:blipFill>
        <p:spPr>
          <a:xfrm>
            <a:off x="1785960" y="1928880"/>
            <a:ext cx="47149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DURA George (DEVCO)</cp:lastModifiedBy>
  <cp:lastPrinted>2013-06-18T09:10:56Z</cp:lastPrinted>
  <dcterms:modified xsi:type="dcterms:W3CDTF">2013-06-19T13:26:46Z</dcterms:modified>
  <cp:revision>134</cp:revision>
  <dc:subject/>
  <dc:title>Slide 1</dc:title>
</cp:coreProperties>
</file>