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EB6-9F5A-4127-B323-522FDD2C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2D5-264B-4BF0-9F98-395CE7D7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53F-E818-4C2D-98A3-B717F053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7B0-C0D2-4408-8615-3A2FF4FB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10CA-B24B-4D57-9C62-091D2D4E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4C34-CA99-444F-81E7-52A40377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F3A2-B02B-4B0A-881A-686133D1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BF7C-337B-4926-9EF4-AE5953A7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22CB-0E30-449F-A700-2C6D924B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EB4F-C279-413E-B070-9E14F30A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201A-AA90-47C9-B049-D22E1F31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C0D-03A4-44B6-8F94-CCEAAF86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7EDD-20FA-4F78-B937-BB493442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2329-8945-48BD-81A7-992DE9B9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B63F-92D6-409C-A532-6401F18C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F180-1D43-4334-A180-D180B964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0557-1534-4B34-95AA-3398D5AF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E76-D78F-469C-B106-0898212B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E81-03DD-47F3-902B-C9AEF737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90E-17E5-4823-9D25-9BD64F8F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C63-5161-4701-B018-0EC538EC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B8D-37F4-40C8-A442-208A26F8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BAEB-D0B8-4EE2-B0CF-C4FDB91D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B01-6DB5-494D-907F-E3FD1CEA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8EDF-5D6E-4CF4-B7CA-8AC488C961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436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1349280"/>
            <a:ext cx="9144000" cy="55087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749760" y="378000"/>
            <a:ext cx="1942920" cy="134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162320" y="6642000"/>
            <a:ext cx="8398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E1A8-0D77-4B78-844B-02D42347FC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9640" y="1988640"/>
            <a:ext cx="53276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fr-BE" sz="2800" spc="-1" strike="noStrike">
                <a:solidFill>
                  <a:srgbClr val="ffffff"/>
                </a:solidFill>
                <a:latin typeface="Arial"/>
              </a:rPr>
              <a:t>Domestic Accountability 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405756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elia Wil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a Dahl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CO – 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rizontal accountability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F9F7-DE27-4B8A-BEB3-0EE34EADE9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42960" y="1917720"/>
            <a:ext cx="771516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liament at the centre of 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3C80-C03C-44AF-BFB0-A24F529B17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guys-sleeping-in-parliament"/>
          <p:cNvPicPr/>
          <p:nvPr/>
        </p:nvPicPr>
        <p:blipFill>
          <a:blip r:embed="rId1"/>
          <a:stretch/>
        </p:blipFill>
        <p:spPr>
          <a:xfrm>
            <a:off x="1571760" y="2428920"/>
            <a:ext cx="5786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porting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19D7-B586-4671-885C-5C957AC14D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SunEditorialCartoon"/>
          <p:cNvPicPr/>
          <p:nvPr/>
        </p:nvPicPr>
        <p:blipFill>
          <a:blip r:embed="rId1"/>
          <a:stretch/>
        </p:blipFill>
        <p:spPr>
          <a:xfrm>
            <a:off x="3000240" y="2071800"/>
            <a:ext cx="31258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... investigat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73AA-9349-4D6E-9153-3DA3365F5D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audit_cartoon"/>
          <p:cNvPicPr/>
          <p:nvPr/>
        </p:nvPicPr>
        <p:blipFill>
          <a:blip r:embed="rId1"/>
          <a:stretch/>
        </p:blipFill>
        <p:spPr>
          <a:xfrm>
            <a:off x="857160" y="2071800"/>
            <a:ext cx="735804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atchdog CSOs -  vital oversight partn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5B16-A5DC-4A1A-8964-BCD0076C01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watchdog"/>
          <p:cNvPicPr/>
          <p:nvPr/>
        </p:nvPicPr>
        <p:blipFill>
          <a:blip r:embed="rId1"/>
          <a:stretch/>
        </p:blipFill>
        <p:spPr>
          <a:xfrm>
            <a:off x="2171880" y="2476440"/>
            <a:ext cx="456084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commendations – questions - 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BD3C-96E0-44A6-966C-B82FA1FA01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http://www.focuspointeglobal.com/Portals/136660/images/encouraging-focus-group-discussion-resized-600.jpg"/>
          <p:cNvPicPr/>
          <p:nvPr/>
        </p:nvPicPr>
        <p:blipFill>
          <a:blip r:embed="rId1"/>
          <a:stretch/>
        </p:blipFill>
        <p:spPr>
          <a:xfrm>
            <a:off x="2714760" y="2286000"/>
            <a:ext cx="35719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CEBA-F6E3-4B86-88C5-576E51F503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estic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9640" y="2457360"/>
          <a:ext cx="8064720" cy="3600720"/>
        </p:xfrm>
        <a:graphic>
          <a:graphicData uri="http://schemas.openxmlformats.org/drawingml/2006/table">
            <a:tbl>
              <a:tblPr/>
              <a:tblGrid>
                <a:gridCol w="765360"/>
                <a:gridCol w="1754280"/>
                <a:gridCol w="936360"/>
                <a:gridCol w="3095640"/>
                <a:gridCol w="712800"/>
                <a:gridCol w="800280"/>
              </a:tblGrid>
              <a:tr h="351000"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(supp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2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un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discri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(dema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AutoShape 9"/>
          <p:cNvSpPr/>
          <p:nvPr/>
        </p:nvSpPr>
        <p:spPr>
          <a:xfrm>
            <a:off x="3132000" y="3041640"/>
            <a:ext cx="682920" cy="2444760"/>
          </a:xfrm>
          <a:prstGeom prst="downArrow">
            <a:avLst>
              <a:gd name="adj1" fmla="val 50000"/>
              <a:gd name="adj2" fmla="val 47466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7164360" y="2889360"/>
            <a:ext cx="576360" cy="2663640"/>
          </a:xfrm>
          <a:prstGeom prst="upArrow">
            <a:avLst>
              <a:gd name="adj1" fmla="val 50000"/>
              <a:gd name="adj2" fmla="val 49702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2114640" y="3144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13" descr=""/>
          <p:cNvPicPr/>
          <p:nvPr/>
        </p:nvPicPr>
        <p:blipFill>
          <a:blip r:embed="rId1"/>
          <a:stretch/>
        </p:blipFill>
        <p:spPr>
          <a:xfrm>
            <a:off x="622440" y="2901960"/>
            <a:ext cx="809640" cy="272412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14" descr=""/>
          <p:cNvPicPr/>
          <p:nvPr/>
        </p:nvPicPr>
        <p:blipFill>
          <a:blip r:embed="rId2"/>
          <a:stretch/>
        </p:blipFill>
        <p:spPr>
          <a:xfrm>
            <a:off x="7729560" y="2792520"/>
            <a:ext cx="811080" cy="28828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6"/>
          <p:cNvSpPr/>
          <p:nvPr/>
        </p:nvSpPr>
        <p:spPr>
          <a:xfrm>
            <a:off x="4034160" y="28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xecu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4191120" y="341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.A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9"/>
          <p:cNvSpPr/>
          <p:nvPr/>
        </p:nvSpPr>
        <p:spPr>
          <a:xfrm>
            <a:off x="5099040" y="3544920"/>
            <a:ext cx="14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0"/>
          <p:cNvSpPr/>
          <p:nvPr/>
        </p:nvSpPr>
        <p:spPr>
          <a:xfrm>
            <a:off x="5931360" y="3900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dici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1"/>
          <p:cNvSpPr/>
          <p:nvPr/>
        </p:nvSpPr>
        <p:spPr>
          <a:xfrm>
            <a:off x="4091040" y="40989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2"/>
          <p:cNvSpPr/>
          <p:nvPr/>
        </p:nvSpPr>
        <p:spPr>
          <a:xfrm>
            <a:off x="4142880" y="5194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3"/>
          <p:cNvSpPr/>
          <p:nvPr/>
        </p:nvSpPr>
        <p:spPr>
          <a:xfrm>
            <a:off x="5450400" y="51944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4200120" y="482436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5348520" y="445284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6"/>
          <p:cNvSpPr/>
          <p:nvPr/>
        </p:nvSpPr>
        <p:spPr>
          <a:xfrm>
            <a:off x="5398920" y="31892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cal counc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omestic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6" descr=""/>
          <p:cNvPicPr/>
          <p:nvPr/>
        </p:nvPicPr>
        <p:blipFill>
          <a:blip r:embed="rId1"/>
          <a:stretch/>
        </p:blipFill>
        <p:spPr>
          <a:xfrm>
            <a:off x="457200" y="2389320"/>
            <a:ext cx="8229600" cy="373032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1019-E85C-4F45-B279-02512CB49F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particip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Content Placeholder 5" descr=""/>
          <p:cNvPicPr/>
          <p:nvPr/>
        </p:nvPicPr>
        <p:blipFill>
          <a:blip r:embed="rId1"/>
          <a:stretch/>
        </p:blipFill>
        <p:spPr>
          <a:xfrm>
            <a:off x="1523880" y="249084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3999-B634-43D7-9B2B-809FA751F5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5" descr=""/>
          <p:cNvPicPr/>
          <p:nvPr/>
        </p:nvPicPr>
        <p:blipFill>
          <a:blip r:embed="rId1"/>
          <a:stretch/>
        </p:blipFill>
        <p:spPr>
          <a:xfrm>
            <a:off x="917640" y="2349360"/>
            <a:ext cx="7183440" cy="3646800"/>
          </a:xfrm>
          <a:prstGeom prst="rect">
            <a:avLst/>
          </a:prstGeom>
          <a:ln w="0">
            <a:noFill/>
          </a:ln>
        </p:spPr>
      </p:pic>
      <p:sp>
        <p:nvSpPr>
          <p:cNvPr id="12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316E-5B51-4410-B622-5F7C5F546C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media landscape, new (old) challeng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Content Placeholder 5" descr=""/>
          <p:cNvPicPr/>
          <p:nvPr/>
        </p:nvPicPr>
        <p:blipFill>
          <a:blip r:embed="rId1"/>
          <a:stretch/>
        </p:blipFill>
        <p:spPr>
          <a:xfrm>
            <a:off x="1332000" y="1901880"/>
            <a:ext cx="6119640" cy="434952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6BEC-3E57-443D-9D7C-646630EB46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ublic sp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Content Placeholder 5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A053-549A-431F-9621-75990D3F3A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ld challenges new opportun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Content Placeholder 5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162320"/>
          </a:xfrm>
          <a:prstGeom prst="rect">
            <a:avLst/>
          </a:prstGeom>
          <a:ln w="0">
            <a:noFill/>
          </a:ln>
        </p:spPr>
      </p:pic>
      <p:sp>
        <p:nvSpPr>
          <p:cNvPr id="13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2AA2-8C2D-4DC2-B038-D89FA80E2D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versight – an essential ingredient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0D4B-17C5-48C6-B9B9-B0BE635489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budget-cartoon-e1361166496254"/>
          <p:cNvPicPr/>
          <p:nvPr/>
        </p:nvPicPr>
        <p:blipFill>
          <a:blip r:embed="rId1"/>
          <a:stretch/>
        </p:blipFill>
        <p:spPr>
          <a:xfrm>
            <a:off x="1785960" y="1928880"/>
            <a:ext cx="47149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DURA George (DEVCO)</cp:lastModifiedBy>
  <cp:lastPrinted>2013-06-18T09:10:56Z</cp:lastPrinted>
  <dcterms:modified xsi:type="dcterms:W3CDTF">2013-06-19T13:26:46Z</dcterms:modified>
  <cp:revision>134</cp:revision>
  <dc:subject/>
  <dc:title>Slide 1</dc:title>
</cp:coreProperties>
</file>